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321A-903D-45EE-9CB2-A13A71048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EDBC-11D7-45CF-8BB4-F612C650F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A1CF-53D4-448B-B304-7E35ED42D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145A-37BA-44AF-8E7E-466BEF108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E918-A566-45B4-97B8-83D3FD785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53EE-4C58-4323-AB28-79339E606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3402-DB5F-41D6-853B-56DF6F62E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C60E-03CD-4302-9CE7-954DE7D1A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4BFF-43CD-4E57-8ABC-A824F38CC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22BB-55BF-44FD-97B4-12CD59A0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AD25-C67C-4F63-9F0C-57809A7F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2886-013D-46CC-B813-F4FB2869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FF02A-E954-476B-B344-4ECC53EEFB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190440" y="-4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img0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190440" y="-4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img0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190440" y="-4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img00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190440" y="-4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img00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190440" y="-4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-190440" y="-4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img00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-190440" y="-4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img00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-190440" y="-4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img00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-190440" y="-4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img00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5T15:38:59Z</dcterms:created>
  <dc:creator>Val Thron</dc:creator>
  <dc:description/>
  <dc:language>en-US</dc:language>
  <cp:lastModifiedBy>Val Thron</cp:lastModifiedBy>
  <dcterms:modified xsi:type="dcterms:W3CDTF">2005-11-25T15:39:28Z</dcterms:modified>
  <cp:revision>1</cp:revision>
  <dc:subject/>
  <dc:title>PowerPoint Presentation</dc:title>
</cp:coreProperties>
</file>