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5920" y="1440"/>
            <a:ext cx="50749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Readiness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d to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v5 6/21/99 ARC/GSF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83320" y="6615000"/>
            <a:ext cx="240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ents to kswanson@mail.arc.nasa.g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115480" y="177840"/>
            <a:ext cx="812520" cy="8510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0" y="1227240"/>
            <a:ext cx="2617920" cy="5162400"/>
            <a:chOff x="0" y="1227240"/>
            <a:chExt cx="2617920" cy="5162400"/>
          </a:xfrm>
        </p:grpSpPr>
        <p:grpSp>
          <p:nvGrpSpPr>
            <p:cNvPr id="47" name=""/>
            <p:cNvGrpSpPr/>
            <p:nvPr/>
          </p:nvGrpSpPr>
          <p:grpSpPr>
            <a:xfrm>
              <a:off x="1490760" y="1227240"/>
              <a:ext cx="1127160" cy="5162400"/>
              <a:chOff x="1490760" y="1227240"/>
              <a:chExt cx="1127160" cy="51624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490760" y="1227240"/>
                <a:ext cx="1127160" cy="5162400"/>
                <a:chOff x="1490760" y="1227240"/>
                <a:chExt cx="1127160" cy="51624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719360" y="1227240"/>
                  <a:ext cx="669960" cy="663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490760" y="5278320"/>
                  <a:ext cx="1127160" cy="1111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719360" y="1527120"/>
                  <a:ext cx="669960" cy="396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744560" y="1503360"/>
                  <a:ext cx="627120" cy="69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638360" y="1522440"/>
                  <a:ext cx="833400" cy="47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RL 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RL 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RL 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spcBef>
                      <a:spcPts val="29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RL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1955880" y="1897200"/>
                <a:ext cx="19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55880" y="2421000"/>
                <a:ext cx="19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5880" y="2946240"/>
                <a:ext cx="19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55880" y="3471840"/>
                <a:ext cx="19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5880" y="3995640"/>
                <a:ext cx="19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5880" y="4521240"/>
                <a:ext cx="19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5880" y="5046840"/>
                <a:ext cx="19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55880" y="5570640"/>
                <a:ext cx="19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60200" y="1415880"/>
              <a:ext cx="115272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Test, Launch &amp; Oper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89000" y="1379520"/>
              <a:ext cx="1522440" cy="1066680"/>
              <a:chOff x="189000" y="1379520"/>
              <a:chExt cx="1522440" cy="1066680"/>
            </a:xfrm>
          </p:grpSpPr>
          <p:sp>
            <p:nvSpPr>
              <p:cNvPr id="64" name=""/>
              <p:cNvSpPr/>
              <p:nvPr/>
            </p:nvSpPr>
            <p:spPr>
              <a:xfrm>
                <a:off x="1328760" y="1379520"/>
                <a:ext cx="382680" cy="1066680"/>
              </a:xfrm>
              <a:custGeom>
                <a:avLst/>
                <a:gdLst/>
                <a:ahLst/>
                <a:rect l="l" t="t" r="r" b="b"/>
                <a:pathLst>
                  <a:path w="241" h="672">
                    <a:moveTo>
                      <a:pt x="240" y="0"/>
                    </a:moveTo>
                    <a:lnTo>
                      <a:pt x="0" y="0"/>
                    </a:lnTo>
                    <a:lnTo>
                      <a:pt x="0" y="671"/>
                    </a:lnTo>
                    <a:lnTo>
                      <a:pt x="240" y="6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189000" y="1913040"/>
                <a:ext cx="113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88640" y="1913040"/>
              <a:ext cx="1522800" cy="1522440"/>
              <a:chOff x="188640" y="1913040"/>
              <a:chExt cx="1522800" cy="1522440"/>
            </a:xfrm>
          </p:grpSpPr>
          <p:sp>
            <p:nvSpPr>
              <p:cNvPr id="67" name=""/>
              <p:cNvSpPr/>
              <p:nvPr/>
            </p:nvSpPr>
            <p:spPr>
              <a:xfrm>
                <a:off x="1481040" y="1913040"/>
                <a:ext cx="230400" cy="1522440"/>
              </a:xfrm>
              <a:custGeom>
                <a:avLst/>
                <a:gdLst/>
                <a:ahLst/>
                <a:rect l="l" t="t" r="r" b="b"/>
                <a:pathLst>
                  <a:path w="145" h="959">
                    <a:moveTo>
                      <a:pt x="144" y="0"/>
                    </a:moveTo>
                    <a:lnTo>
                      <a:pt x="0" y="0"/>
                    </a:lnTo>
                    <a:lnTo>
                      <a:pt x="0" y="958"/>
                    </a:lnTo>
                    <a:lnTo>
                      <a:pt x="144" y="9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88640" y="2673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89000" y="2976480"/>
              <a:ext cx="1522440" cy="1067040"/>
              <a:chOff x="189000" y="2976480"/>
              <a:chExt cx="1522440" cy="1067040"/>
            </a:xfrm>
          </p:grpSpPr>
          <p:sp>
            <p:nvSpPr>
              <p:cNvPr id="70" name=""/>
              <p:cNvSpPr/>
              <p:nvPr/>
            </p:nvSpPr>
            <p:spPr>
              <a:xfrm>
                <a:off x="1328760" y="2976480"/>
                <a:ext cx="382680" cy="1067040"/>
              </a:xfrm>
              <a:custGeom>
                <a:avLst/>
                <a:gdLst/>
                <a:ahLst/>
                <a:rect l="l" t="t" r="r" b="b"/>
                <a:pathLst>
                  <a:path w="241" h="672">
                    <a:moveTo>
                      <a:pt x="240" y="0"/>
                    </a:moveTo>
                    <a:lnTo>
                      <a:pt x="0" y="0"/>
                    </a:lnTo>
                    <a:lnTo>
                      <a:pt x="0" y="671"/>
                    </a:lnTo>
                    <a:lnTo>
                      <a:pt x="240" y="6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89000" y="3510000"/>
                <a:ext cx="113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188640" y="3586320"/>
              <a:ext cx="1522800" cy="1446120"/>
              <a:chOff x="188640" y="3586320"/>
              <a:chExt cx="1522800" cy="1446120"/>
            </a:xfrm>
          </p:grpSpPr>
          <p:sp>
            <p:nvSpPr>
              <p:cNvPr id="73" name=""/>
              <p:cNvSpPr/>
              <p:nvPr/>
            </p:nvSpPr>
            <p:spPr>
              <a:xfrm>
                <a:off x="1481040" y="3586320"/>
                <a:ext cx="230400" cy="1446120"/>
              </a:xfrm>
              <a:custGeom>
                <a:avLst/>
                <a:gdLst/>
                <a:ahLst/>
                <a:rect l="l" t="t" r="r" b="b"/>
                <a:pathLst>
                  <a:path w="145" h="911">
                    <a:moveTo>
                      <a:pt x="144" y="0"/>
                    </a:moveTo>
                    <a:lnTo>
                      <a:pt x="0" y="0"/>
                    </a:lnTo>
                    <a:lnTo>
                      <a:pt x="0" y="910"/>
                    </a:lnTo>
                    <a:lnTo>
                      <a:pt x="144" y="9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88640" y="43466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522440" y="5259240"/>
              <a:ext cx="230040" cy="914400"/>
            </a:xfrm>
            <a:custGeom>
              <a:avLst/>
              <a:gdLst/>
              <a:ahLst/>
              <a:rect l="l" t="t" r="r" b="b"/>
              <a:pathLst>
                <a:path w="145" h="576">
                  <a:moveTo>
                    <a:pt x="144" y="0"/>
                  </a:moveTo>
                  <a:lnTo>
                    <a:pt x="0" y="0"/>
                  </a:lnTo>
                  <a:lnTo>
                    <a:pt x="0" y="575"/>
                  </a:lnTo>
                  <a:lnTo>
                    <a:pt x="144" y="5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88640" y="5867280"/>
              <a:ext cx="12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297160"/>
              <a:ext cx="1343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/Subsystem 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2120" y="3154320"/>
              <a:ext cx="11210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chnology Demons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1960" y="3981600"/>
              <a:ext cx="1030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chnology 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1120" y="4832280"/>
              <a:ext cx="1252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arch to Prove Fea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532480"/>
              <a:ext cx="1343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ic Technology Re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89000" y="4660920"/>
              <a:ext cx="1522440" cy="1066680"/>
              <a:chOff x="189000" y="4660920"/>
              <a:chExt cx="1522440" cy="1066680"/>
            </a:xfrm>
          </p:grpSpPr>
          <p:sp>
            <p:nvSpPr>
              <p:cNvPr id="83" name=""/>
              <p:cNvSpPr/>
              <p:nvPr/>
            </p:nvSpPr>
            <p:spPr>
              <a:xfrm>
                <a:off x="1328760" y="4660920"/>
                <a:ext cx="382680" cy="1066680"/>
              </a:xfrm>
              <a:custGeom>
                <a:avLst/>
                <a:gdLst/>
                <a:ahLst/>
                <a:rect l="l" t="t" r="r" b="b"/>
                <a:pathLst>
                  <a:path w="241" h="672">
                    <a:moveTo>
                      <a:pt x="240" y="0"/>
                    </a:moveTo>
                    <a:lnTo>
                      <a:pt x="0" y="0"/>
                    </a:lnTo>
                    <a:lnTo>
                      <a:pt x="0" y="671"/>
                    </a:lnTo>
                    <a:lnTo>
                      <a:pt x="240" y="6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89000" y="5194440"/>
                <a:ext cx="113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776680" y="1204920"/>
            <a:ext cx="6067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9: Actual system “mission proven” through successful mission operation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Thoroughly debugged software readily repeatable. Fully integrated with operational hardware/software systems.  All documentation completed. Successful operational experience. Sustaining software engineering support in place.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ual system fully demonstr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8: Actual system completed and “mission qualified” through test and demonstration in an operational environme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oroughly debugged software.  Fully integrated with operational hardware and software systems.  Most user documentation, training documentation, and maintenance documentation completed.  All functionality tested in simulated and operational scenarios. V&amp;V comple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7: System prototype demonstration in high-fidelity environment (parallel or shadow mode operation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st functionality available for demonstration and test.  Well integrated with operational hardware/software systems.  Most software bugs removed.  Limited documentation avail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6: System/subsystem prototype demonstration in a relevant end-to-end environmen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ototype implementations on full scale realistic problems.  Partially integrated with existing hardware/software systems. Limited documentation available. 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ngineering feasibility fully demonstr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5: Module and/or subsystem validation in relevant environme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ototype implementations conform to target environment / interfaces. Experiments with realistic problems.  Simulated interfaces to existing syste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4: Module and/or subsystem validation in laboratory environme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tandalone prototype implementations. Experiments with full scale problems or data se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3: Analytical and experimental critical function and/or characteristic proof-of-concep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imited functionality implementations. Experiments with small representative data sets.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cientific feasibility fully demonstr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2: Technology concept and/or application formula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asic principles coded. Experiments with synthetic data. Mostly applied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L 1: Basic principles observed and repor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asic properties of algorithms, representations &amp; concepts.  Mathematical formulations. Mix of basic and applied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en Moe</cp:lastModifiedBy>
  <dcterms:modified xsi:type="dcterms:W3CDTF">1999-06-21T21:01:37Z</dcterms:modified>
  <cp:revision>4</cp:revision>
  <dc:subject/>
  <dc:title>No Slide Title</dc:title>
</cp:coreProperties>
</file>