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3800" y="864720"/>
            <a:ext cx="5025960" cy="348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237960"/>
            <a:ext cx="9600840" cy="6245280"/>
            <a:chOff x="152280" y="237960"/>
            <a:chExt cx="9600840" cy="6245280"/>
          </a:xfrm>
        </p:grpSpPr>
        <p:sp>
          <p:nvSpPr>
            <p:cNvPr id="1" name=""/>
            <p:cNvSpPr/>
            <p:nvPr/>
          </p:nvSpPr>
          <p:spPr>
            <a:xfrm>
              <a:off x="152280" y="23796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48324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74840" y="66600"/>
            <a:ext cx="1504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49360" y="100080"/>
            <a:ext cx="13381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-Pl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983360" y="64962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400" y="6292800"/>
            <a:ext cx="229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4: Ch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70120" y="1592280"/>
            <a:ext cx="8175600" cy="3449520"/>
            <a:chOff x="870120" y="1592280"/>
            <a:chExt cx="8175600" cy="3449520"/>
          </a:xfrm>
        </p:grpSpPr>
        <p:sp>
          <p:nvSpPr>
            <p:cNvPr id="47" name=""/>
            <p:cNvSpPr txBox="1"/>
            <p:nvPr/>
          </p:nvSpPr>
          <p:spPr>
            <a:xfrm>
              <a:off x="2158920" y="1627200"/>
              <a:ext cx="5187960" cy="7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-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120" y="1592280"/>
              <a:ext cx="8175600" cy="3300480"/>
            </a:xfrm>
            <a:custGeom>
              <a:avLst/>
              <a:gdLst>
                <a:gd name="textAreaLeft" fmla="*/ 1277280 w 8175600"/>
                <a:gd name="textAreaRight" fmla="*/ 7495560 w 8175600"/>
                <a:gd name="textAreaTop" fmla="*/ 896400 h 3300480"/>
                <a:gd name="textAreaBottom" fmla="*/ 2404080 h 33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868"/>
                  </a:moveTo>
                  <a:lnTo>
                    <a:pt x="17664" y="5868"/>
                  </a:ln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17664" y="15732"/>
                  </a:lnTo>
                  <a:lnTo>
                    <a:pt x="3375" y="15732"/>
                  </a:lnTo>
                  <a:close/>
                </a:path>
                <a:path w="21600" h="21600">
                  <a:moveTo>
                    <a:pt x="0" y="5868"/>
                  </a:moveTo>
                  <a:lnTo>
                    <a:pt x="675" y="5868"/>
                  </a:lnTo>
                  <a:lnTo>
                    <a:pt x="675" y="15732"/>
                  </a:lnTo>
                  <a:lnTo>
                    <a:pt x="0" y="15732"/>
                  </a:lnTo>
                  <a:close/>
                </a:path>
                <a:path w="21600" h="21600">
                  <a:moveTo>
                    <a:pt x="1350" y="5868"/>
                  </a:moveTo>
                  <a:lnTo>
                    <a:pt x="2700" y="5868"/>
                  </a:lnTo>
                  <a:lnTo>
                    <a:pt x="2700" y="15732"/>
                  </a:lnTo>
                  <a:lnTo>
                    <a:pt x="1350" y="157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36840" y="2576520"/>
              <a:ext cx="1892160" cy="12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8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ast-Start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48240" y="2550960"/>
              <a:ext cx="383364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920" y="3965760"/>
              <a:ext cx="5037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 Narrow"/>
                </a:rPr>
                <a:t>- A practical guide for supporting technology and product plannin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37600" y="1393920"/>
            <a:ext cx="7470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Fast-Start Technology Roadmapping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Workshop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(Char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10320" y="1957320"/>
            <a:ext cx="55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ine focus and format of rout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art market 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art evolution of product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art preferred technology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art other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te links betwee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1200" y="757080"/>
            <a:ext cx="41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shop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28000" y="595440"/>
            <a:ext cx="66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echnology Roadmap (TRM) -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7320" y="1809720"/>
            <a:ext cx="5986440" cy="405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45520" y="1727280"/>
            <a:ext cx="931680" cy="620640"/>
          </a:xfrm>
          <a:prstGeom prst="rightArrow">
            <a:avLst>
              <a:gd name="adj1" fmla="val 68750"/>
              <a:gd name="adj2" fmla="val 388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16440" y="183204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00" y="2041560"/>
            <a:ext cx="14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siness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1680" y="341136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9400" y="49388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26960" y="315900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26960" y="451152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6840" y="4665600"/>
            <a:ext cx="168264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7720" y="3522600"/>
            <a:ext cx="167796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87920" y="5068800"/>
            <a:ext cx="167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65760" y="547200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05480" y="389268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4000" y="2324160"/>
            <a:ext cx="317520" cy="28872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7360" y="2327400"/>
            <a:ext cx="312840" cy="2854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3240" y="5062680"/>
            <a:ext cx="1672920" cy="237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0600" y="3522600"/>
            <a:ext cx="1673280" cy="241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70240" y="376344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7000" y="411948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226280" y="37638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38560" y="36450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73800" y="5186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9480" y="4784760"/>
            <a:ext cx="138240" cy="285840"/>
          </a:xfrm>
          <a:custGeom>
            <a:avLst/>
            <a:gdLst/>
            <a:ahLst/>
            <a:rect l="l" t="t" r="r" b="b"/>
            <a:pathLst>
              <a:path w="52" h="113">
                <a:moveTo>
                  <a:pt x="0" y="0"/>
                </a:moveTo>
                <a:lnTo>
                  <a:pt x="52" y="0"/>
                </a:lnTo>
                <a:lnTo>
                  <a:pt x="52" y="1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68920" y="3763800"/>
            <a:ext cx="0" cy="1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1020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9288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02600" y="261288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8880" y="2612880"/>
            <a:ext cx="0" cy="90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012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920" y="3557520"/>
            <a:ext cx="2793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236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0360" y="3557520"/>
            <a:ext cx="2811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2280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34040" y="3557520"/>
            <a:ext cx="27792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504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86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6920" y="270972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222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276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760" y="3452760"/>
            <a:ext cx="17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 /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orit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9360" y="3452760"/>
            <a:ext cx="166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9960" y="3452760"/>
            <a:ext cx="15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50920" y="3452760"/>
            <a:ext cx="143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our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ture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092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848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8476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4700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080" y="701640"/>
            <a:ext cx="81122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T-Plan: Fast-Start Technology Road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52720" y="2044800"/>
            <a:ext cx="5138640" cy="34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61200" y="1554120"/>
            <a:ext cx="800280" cy="420840"/>
          </a:xfrm>
          <a:prstGeom prst="rightArrow">
            <a:avLst>
              <a:gd name="adj1" fmla="val 68750"/>
              <a:gd name="adj2" fmla="val 492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97560" y="15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0400" y="23144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7880" y="356868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7680" y="47242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52720" y="320364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52720" y="436248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9960" y="2519280"/>
            <a:ext cx="1483560" cy="1369440"/>
            <a:chOff x="6249960" y="2519280"/>
            <a:chExt cx="1483560" cy="1369440"/>
          </a:xfrm>
        </p:grpSpPr>
        <p:sp>
          <p:nvSpPr>
            <p:cNvPr id="113" name=""/>
            <p:cNvSpPr/>
            <p:nvPr/>
          </p:nvSpPr>
          <p:spPr>
            <a:xfrm>
              <a:off x="624996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624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3988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3652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996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624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4360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988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3652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4996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24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4360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3988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652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996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624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3988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652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996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624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4360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988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3652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rot="16200000">
            <a:off x="5262120" y="3045600"/>
            <a:ext cx="1503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33080" y="213372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 / Market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530520" y="3678120"/>
            <a:ext cx="1483560" cy="1369440"/>
            <a:chOff x="3530520" y="3678120"/>
            <a:chExt cx="1483560" cy="1369440"/>
          </a:xfrm>
        </p:grpSpPr>
        <p:sp>
          <p:nvSpPr>
            <p:cNvPr id="141" name=""/>
            <p:cNvSpPr/>
            <p:nvPr/>
          </p:nvSpPr>
          <p:spPr>
            <a:xfrm>
              <a:off x="353052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680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416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2044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1708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3052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680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416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044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708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3052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2680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2416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044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708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3052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680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416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44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708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3052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2680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416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44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708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rot="16200000">
            <a:off x="4692960" y="2222280"/>
            <a:ext cx="257040" cy="2127240"/>
          </a:xfrm>
          <a:custGeom>
            <a:avLst/>
            <a:gdLst>
              <a:gd name="textAreaLeft" fmla="*/ 360 w 257040"/>
              <a:gd name="textAreaRight" fmla="*/ 257760 w 25704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35200" y="335592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273760" y="4238280"/>
            <a:ext cx="190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79680" y="1125360"/>
            <a:ext cx="242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81600" y="1413000"/>
            <a:ext cx="798480" cy="11588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0"/>
                </a:moveTo>
                <a:lnTo>
                  <a:pt x="96" y="0"/>
                </a:lnTo>
                <a:lnTo>
                  <a:pt x="528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73600" y="5100480"/>
            <a:ext cx="569880" cy="10540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864"/>
                </a:moveTo>
                <a:lnTo>
                  <a:pt x="144" y="86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40280" y="3968640"/>
            <a:ext cx="2852640" cy="219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1720" y="5848200"/>
            <a:ext cx="19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2920" y="4111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Roadmap Input Data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037400" y="398520"/>
            <a:ext cx="1892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Cha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7360" y="1062000"/>
            <a:ext cx="9009000" cy="518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" y="1116000"/>
            <a:ext cx="92221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e focus and time-base of roadmap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i.e. product evolution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art drivers, trends and known market tri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i.e. STEEP factors from workshop 1, strategic milestones, legislative ev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ompetitor activ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art future product evolution, referring to key product feature a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 i.e. by how much and by wh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‘Vision’ reflects market need and technology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art preferred technological response / solution strateg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ring to key technolog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art evolution of other ke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 e.g. skills, knowledge, alliances,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raw linkages between market, product and technology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te associated issues / queries / ideas on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93760" y="712800"/>
            <a:ext cx="400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Gaps / way 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87400" y="1719360"/>
            <a:ext cx="6292800" cy="14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41280" y="1895400"/>
            <a:ext cx="5494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key ‘gaps’ in curr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 how best to ‘roll-out’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9840" y="3670200"/>
            <a:ext cx="57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market, product and technology aspects &amp; key 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5160" y="4046400"/>
            <a:ext cx="54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sources of information and mechanisms for filling g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7360" y="4856040"/>
            <a:ext cx="68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What are the success factors and potential barriers for TRM process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- first implementation and as an ongoing proces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8200" y="4441680"/>
            <a:ext cx="60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What should the TRM look like? What key information should it convey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5120" y="5430960"/>
            <a:ext cx="43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Benefits / problems with TRM process / approa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6960" y="574992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Next step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96040" y="554040"/>
            <a:ext cx="454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Keeping roadmapping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120" y="1353960"/>
            <a:ext cx="9471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gle (isolated) application of road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e.g. for assessment of particular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-visiting a roadmap that has previously been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Start with existing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Review underlying assumptions, key conclusions, assess progress, and update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Use the existing roadmap as a starting point for other activities (e.g. core competence assessmen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lling out the roadmapping process to other parts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Top-down (driven by senior management) or bottom-up (‘organic’)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Demonstrate and communicate the value of roadmapping to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 Ensure that staff are trained in the application and facilitation of the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998960"/>
            <a:ext cx="88552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full potential of roadmaps is only realised when they become part of the think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firm, are integrated with other activities, and are kept cur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‘first-cut’ roadmap is a starting point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dc:language>en-US</dc:language>
  <cp:lastModifiedBy>rp108</cp:lastModifiedBy>
  <cp:lastPrinted>1999-11-01T11:57:03Z</cp:lastPrinted>
  <dcterms:modified xsi:type="dcterms:W3CDTF">2001-10-23T13:08:08Z</dcterms:modified>
  <cp:revision>80</cp:revision>
  <dc:subject/>
  <dc:title>No Slide Title</dc:title>
</cp:coreProperties>
</file>