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3800" y="864720"/>
            <a:ext cx="5025960" cy="348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84160" y="865080"/>
            <a:ext cx="502596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84160" y="865080"/>
            <a:ext cx="502596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237960"/>
            <a:ext cx="9600840" cy="6245280"/>
            <a:chOff x="152280" y="237960"/>
            <a:chExt cx="9600840" cy="6245280"/>
          </a:xfrm>
        </p:grpSpPr>
        <p:sp>
          <p:nvSpPr>
            <p:cNvPr id="1" name=""/>
            <p:cNvSpPr/>
            <p:nvPr/>
          </p:nvSpPr>
          <p:spPr>
            <a:xfrm>
              <a:off x="152280" y="237960"/>
              <a:ext cx="960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6483240"/>
              <a:ext cx="960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74840" y="66600"/>
            <a:ext cx="1504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49360" y="100080"/>
            <a:ext cx="133812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-Pl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" name=""/>
          <p:cNvSpPr/>
          <p:nvPr/>
        </p:nvSpPr>
        <p:spPr>
          <a:xfrm>
            <a:off x="7983360" y="649620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292800"/>
            <a:ext cx="2117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hop 1: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870120" y="1592280"/>
            <a:ext cx="8175600" cy="3449520"/>
            <a:chOff x="870120" y="1592280"/>
            <a:chExt cx="8175600" cy="3449520"/>
          </a:xfrm>
        </p:grpSpPr>
        <p:sp>
          <p:nvSpPr>
            <p:cNvPr id="47" name=""/>
            <p:cNvSpPr txBox="1"/>
            <p:nvPr/>
          </p:nvSpPr>
          <p:spPr>
            <a:xfrm>
              <a:off x="2158920" y="1627200"/>
              <a:ext cx="5187960" cy="7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-Pl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0120" y="1592280"/>
              <a:ext cx="8175600" cy="3300480"/>
            </a:xfrm>
            <a:custGeom>
              <a:avLst/>
              <a:gdLst>
                <a:gd name="textAreaLeft" fmla="*/ 1277280 w 8175600"/>
                <a:gd name="textAreaRight" fmla="*/ 7495560 w 8175600"/>
                <a:gd name="textAreaTop" fmla="*/ 896400 h 3300480"/>
                <a:gd name="textAreaBottom" fmla="*/ 2404080 h 33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868"/>
                  </a:moveTo>
                  <a:lnTo>
                    <a:pt x="17664" y="5868"/>
                  </a:lnTo>
                  <a:lnTo>
                    <a:pt x="17664" y="0"/>
                  </a:lnTo>
                  <a:lnTo>
                    <a:pt x="21600" y="10800"/>
                  </a:lnTo>
                  <a:lnTo>
                    <a:pt x="17664" y="21600"/>
                  </a:lnTo>
                  <a:lnTo>
                    <a:pt x="17664" y="15732"/>
                  </a:lnTo>
                  <a:lnTo>
                    <a:pt x="3375" y="15732"/>
                  </a:lnTo>
                  <a:close/>
                </a:path>
                <a:path w="21600" h="21600">
                  <a:moveTo>
                    <a:pt x="0" y="5868"/>
                  </a:moveTo>
                  <a:lnTo>
                    <a:pt x="675" y="5868"/>
                  </a:lnTo>
                  <a:lnTo>
                    <a:pt x="675" y="15732"/>
                  </a:lnTo>
                  <a:lnTo>
                    <a:pt x="0" y="15732"/>
                  </a:lnTo>
                  <a:close/>
                </a:path>
                <a:path w="21600" h="21600">
                  <a:moveTo>
                    <a:pt x="1350" y="5868"/>
                  </a:moveTo>
                  <a:lnTo>
                    <a:pt x="2700" y="5868"/>
                  </a:lnTo>
                  <a:lnTo>
                    <a:pt x="2700" y="15732"/>
                  </a:lnTo>
                  <a:lnTo>
                    <a:pt x="1350" y="157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436840" y="2576520"/>
              <a:ext cx="1892160" cy="12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782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ast-Start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48240" y="2550960"/>
              <a:ext cx="3833640" cy="16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 Narrow"/>
                </a:rPr>
                <a:t>Roadmapp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920" y="3965760"/>
              <a:ext cx="50371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 Narrow"/>
                </a:rPr>
                <a:t>- A practical guide for supporting technology and product planning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47840" y="2584440"/>
            <a:ext cx="6796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4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80920" y="638280"/>
            <a:ext cx="80172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Fast-start technology roadmapping at [Compan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447200" y="531720"/>
            <a:ext cx="6823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Product performance dimen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50840" y="1960560"/>
            <a:ext cx="7349400" cy="4394880"/>
            <a:chOff x="1050840" y="1960560"/>
            <a:chExt cx="7349400" cy="4394880"/>
          </a:xfrm>
        </p:grpSpPr>
        <p:sp>
          <p:nvSpPr>
            <p:cNvPr id="324" name=""/>
            <p:cNvSpPr/>
            <p:nvPr/>
          </p:nvSpPr>
          <p:spPr>
            <a:xfrm>
              <a:off x="3898080" y="2651040"/>
              <a:ext cx="2311200" cy="2343960"/>
            </a:xfrm>
            <a:custGeom>
              <a:avLst/>
              <a:gdLst/>
              <a:ahLst/>
              <a:rect l="l" t="t" r="r" b="b"/>
              <a:pathLst>
                <a:path w="883" h="970">
                  <a:moveTo>
                    <a:pt x="457" y="0"/>
                  </a:moveTo>
                  <a:lnTo>
                    <a:pt x="0" y="462"/>
                  </a:lnTo>
                  <a:lnTo>
                    <a:pt x="286" y="823"/>
                  </a:lnTo>
                  <a:lnTo>
                    <a:pt x="736" y="970"/>
                  </a:lnTo>
                  <a:lnTo>
                    <a:pt x="883" y="469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099040" y="2327040"/>
              <a:ext cx="0" cy="17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3276000" y="3591000"/>
              <a:ext cx="1819440" cy="48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044240" y="4055400"/>
              <a:ext cx="1013400" cy="14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103720" y="3591000"/>
              <a:ext cx="1818000" cy="48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45480" y="4065480"/>
              <a:ext cx="1015200" cy="141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315960" y="4209120"/>
              <a:ext cx="911520" cy="54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1840" y="449388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nvelo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57760" y="5202000"/>
              <a:ext cx="291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70320" y="5164200"/>
              <a:ext cx="134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imen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(size, weigh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peed, etc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506320" y="3682440"/>
              <a:ext cx="322560" cy="19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50840" y="3600360"/>
              <a:ext cx="14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arket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(pul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672400">
              <a:off x="6949800" y="3337560"/>
              <a:ext cx="363240" cy="447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6200000">
              <a:off x="4935600" y="1886040"/>
              <a:ext cx="335520" cy="484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3308400">
              <a:off x="6157080" y="5407200"/>
              <a:ext cx="335880" cy="483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927600">
              <a:off x="2869920" y="3337560"/>
              <a:ext cx="363240" cy="447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18291600">
              <a:off x="3705480" y="5394240"/>
              <a:ext cx="335880" cy="48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3308400">
              <a:off x="5139000" y="4077360"/>
              <a:ext cx="335520" cy="484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rot="18291600">
              <a:off x="4728600" y="4079880"/>
              <a:ext cx="335880" cy="483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672400">
              <a:off x="5261760" y="3743280"/>
              <a:ext cx="363600" cy="446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rot="927600">
              <a:off x="4574160" y="3743640"/>
              <a:ext cx="363240" cy="446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4928040" y="3482280"/>
              <a:ext cx="335520" cy="484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099040" y="2656080"/>
              <a:ext cx="963360" cy="107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02720" y="2347560"/>
              <a:ext cx="2297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echnology capabil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nd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(pus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03360" y="1512720"/>
            <a:ext cx="2593800" cy="13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2560" y="1611360"/>
            <a:ext cx="22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Performance’ prov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a means of lin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market, product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162520" y="601560"/>
            <a:ext cx="5157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Performance dimen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0640" y="1454040"/>
            <a:ext cx="89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se are aspects of product performance which are (or may b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ortant to the customer, and which technology can del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46440" y="3068640"/>
            <a:ext cx="5427360" cy="156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0640" y="2363760"/>
            <a:ext cx="78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Examples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size; speed; quality;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73520" y="3141720"/>
            <a:ext cx="47826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instorm performance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ort into appropriate group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e ‘key’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8480" y="4981680"/>
            <a:ext cx="62704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Consider quantitative and qualitativ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May include market, product or technology ‘view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‘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Key’ dimensions are those which stand out as having high potential 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to the customer or attractiveness to [Company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24560" y="46926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* 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402640" y="612720"/>
            <a:ext cx="51800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Market / business driv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8320" y="3859200"/>
            <a:ext cx="5597640" cy="217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0200" y="1523880"/>
            <a:ext cx="92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se include external market (customer) and internal business ([Company]) driv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flecting the underlying customer and business motivation, needs &amp;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040" y="2487600"/>
            <a:ext cx="933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xamples: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xternal (Market):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cost of ownership; legislation;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nternal: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      cost; time-to-market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(higher level: profit, growth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5400" y="3932280"/>
            <a:ext cx="53388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instorm market (customer)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instorm business ([Company])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ort into appropriate groups (10 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links to performance dimension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82400" y="4218120"/>
            <a:ext cx="29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the trend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drivers affecting k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ustomers and compe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(intermediate &amp; end customers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76280" y="3699000"/>
            <a:ext cx="272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A ‘level up’ from perform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66560" y="5235480"/>
            <a:ext cx="24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Drivers may vary with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and / or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61440" y="5749920"/>
            <a:ext cx="270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strategic [Company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65440" y="60548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* 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026080" y="981000"/>
            <a:ext cx="6012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Segmentation &amp; priorit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23920" y="2039760"/>
            <a:ext cx="5594400" cy="17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06080" y="2170080"/>
            <a:ext cx="481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&amp; prioritise marke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oritise market drivers (1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oritise business drivers (1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46080" y="4551480"/>
            <a:ext cx="605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Prioritisation may vary with time and / or segment - should includ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to both customer and [Company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49680" y="5170320"/>
            <a:ext cx="595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‘urgency’, including customer and business need, legisla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and competitor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56880" y="4159080"/>
            <a:ext cx="22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key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682000" y="981000"/>
            <a:ext cx="43009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Competitive 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81400" y="2228760"/>
            <a:ext cx="4865400" cy="132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08840" y="2392200"/>
            <a:ext cx="4311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cuss the competitiv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77680" y="4551480"/>
            <a:ext cx="46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What are the competitors’ strengths and weakness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84160" y="4994280"/>
            <a:ext cx="67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What are the strategic implications for the business, products and technologi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87760" y="4159080"/>
            <a:ext cx="50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Focus on most important market segments and compet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130560" y="922320"/>
            <a:ext cx="3191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SWO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82800" y="2187720"/>
            <a:ext cx="3878280" cy="24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41360" y="2362320"/>
            <a:ext cx="20469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45440" y="5175360"/>
            <a:ext cx="53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Markets, competitors, technology, alliances, skills, finance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54800" y="5511960"/>
            <a:ext cx="61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Drivers: social, technological, environmental, economic, political (STE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62440" y="2436840"/>
            <a:ext cx="177840" cy="704880"/>
          </a:xfrm>
          <a:custGeom>
            <a:avLst/>
            <a:gdLst>
              <a:gd name="textAreaLeft" fmla="*/ 113760 w 177840"/>
              <a:gd name="textAreaRight" fmla="*/ 177840 w 17784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27880" y="2595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70360" y="3665520"/>
            <a:ext cx="177840" cy="704880"/>
          </a:xfrm>
          <a:custGeom>
            <a:avLst/>
            <a:gdLst>
              <a:gd name="textAreaLeft" fmla="*/ 113760 w 177840"/>
              <a:gd name="textAreaRight" fmla="*/ 177840 w 17784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68560" y="38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00440" y="3260880"/>
            <a:ext cx="662040" cy="3650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213800" y="1181160"/>
            <a:ext cx="122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G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25640" y="2573280"/>
            <a:ext cx="5904000" cy="77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9440" y="2747880"/>
            <a:ext cx="51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key ‘gaps’ in curren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46320" y="4078440"/>
            <a:ext cx="51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market, competition, key customers and legi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54240" y="4484520"/>
            <a:ext cx="497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‘high-level’ social, technological, environment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economic and political factors (STE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64320" y="5076720"/>
            <a:ext cx="54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sources of information and mechanisms for filling g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37600" y="1393920"/>
            <a:ext cx="74707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Fast-Start Technology Roadmapping</a:t>
            </a:r>
            <a:br>
              <a:rPr sz="4000"/>
            </a:br>
            <a:br>
              <a:rPr sz="1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 Narrow"/>
              </a:rPr>
              <a:t>[Company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Worksho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(Mark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57960" y="2027160"/>
            <a:ext cx="60458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Technology management / road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Performance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Market / business d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Segmentation &amp; priorit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Competitive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SW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23680" y="917640"/>
            <a:ext cx="41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orkshop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68240" y="500040"/>
            <a:ext cx="45568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echnology Management 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Generation &amp; Exploitatio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5440" y="1671480"/>
            <a:ext cx="8708760" cy="444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93720" y="1925640"/>
            <a:ext cx="26751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rkets/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59720" y="5473800"/>
            <a:ext cx="312624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urces of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255840" y="3035160"/>
            <a:ext cx="3012840" cy="1721880"/>
            <a:chOff x="3255840" y="3035160"/>
            <a:chExt cx="3012840" cy="1721880"/>
          </a:xfrm>
        </p:grpSpPr>
        <p:sp>
          <p:nvSpPr>
            <p:cNvPr id="60" name=""/>
            <p:cNvSpPr/>
            <p:nvPr/>
          </p:nvSpPr>
          <p:spPr>
            <a:xfrm>
              <a:off x="3255840" y="3485880"/>
              <a:ext cx="3012840" cy="12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21600"/>
                  </a:moveTo>
                  <a:arcTo wR="10800" hR="10800" stAng="5404170" swAng="5405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21600"/>
                  </a:moveTo>
                  <a:arcTo wR="10800" hR="10800" stAng="5404170" swAng="5405103"/>
                </a:path>
              </a:pathLst>
            </a:custGeom>
            <a:noFill/>
            <a:ln cap="rnd"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58000" y="3485880"/>
              <a:ext cx="3008880" cy="12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1"/>
                  </a:moveTo>
                  <a:arcTo wR="10800" hR="10800" stAng="-9284" swAng="541345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1"/>
                  </a:moveTo>
                  <a:arcTo wR="10800" hR="10800" stAng="-9284" swAng="5413455"/>
                </a:path>
              </a:pathLst>
            </a:custGeom>
            <a:noFill/>
            <a:ln cap="rnd"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255840" y="3035160"/>
              <a:ext cx="3012840" cy="1274040"/>
              <a:chOff x="3255840" y="3035160"/>
              <a:chExt cx="3012840" cy="1274040"/>
            </a:xfrm>
          </p:grpSpPr>
          <p:sp>
            <p:nvSpPr>
              <p:cNvPr id="63" name=""/>
              <p:cNvSpPr/>
              <p:nvPr/>
            </p:nvSpPr>
            <p:spPr>
              <a:xfrm>
                <a:off x="3257640" y="3035160"/>
                <a:ext cx="3008880" cy="12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7" y="0"/>
                    </a:moveTo>
                    <a:arcTo wR="10800" hR="10800" stAng="-5404165" swAng="54041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7" y="0"/>
                    </a:moveTo>
                    <a:arcTo wR="10800" hR="10800" stAng="-5404165" swAng="5404165"/>
                  </a:path>
                </a:pathLst>
              </a:custGeom>
              <a:noFill/>
              <a:ln cap="rnd"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55840" y="3035160"/>
                <a:ext cx="3012840" cy="12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58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5835"/>
                  </a:path>
                </a:pathLst>
              </a:custGeom>
              <a:noFill/>
              <a:ln cap="rnd" w="101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"/>
          <p:cNvSpPr/>
          <p:nvPr/>
        </p:nvSpPr>
        <p:spPr>
          <a:xfrm>
            <a:off x="3357720" y="2622600"/>
            <a:ext cx="2777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8680" rIns="58680" tIns="30240" bIns="30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Explo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6640" y="4894200"/>
            <a:ext cx="3030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30240" bIns="30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10840" y="5308560"/>
            <a:ext cx="1162440" cy="188640"/>
            <a:chOff x="4110840" y="5308560"/>
            <a:chExt cx="1162440" cy="188640"/>
          </a:xfrm>
        </p:grpSpPr>
        <p:sp>
          <p:nvSpPr>
            <p:cNvPr id="68" name=""/>
            <p:cNvSpPr/>
            <p:nvPr/>
          </p:nvSpPr>
          <p:spPr>
            <a:xfrm flipH="1" flipV="1" rot="5400000">
              <a:off x="4158360" y="5260320"/>
              <a:ext cx="188640" cy="2847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d6eb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 rot="5400000">
              <a:off x="5034600" y="5258520"/>
              <a:ext cx="188640" cy="2887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d6eb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102200" y="2419560"/>
            <a:ext cx="1179000" cy="191880"/>
            <a:chOff x="4102200" y="2419560"/>
            <a:chExt cx="1179000" cy="191880"/>
          </a:xfrm>
        </p:grpSpPr>
        <p:sp>
          <p:nvSpPr>
            <p:cNvPr id="71" name=""/>
            <p:cNvSpPr/>
            <p:nvPr/>
          </p:nvSpPr>
          <p:spPr>
            <a:xfrm flipH="1" flipV="1" rot="5400000">
              <a:off x="4150080" y="2370960"/>
              <a:ext cx="191880" cy="2880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d6eb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 rot="5400000">
              <a:off x="5041080" y="2370960"/>
              <a:ext cx="191880" cy="2880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d6eb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6200000">
            <a:off x="4668120" y="3224880"/>
            <a:ext cx="193680" cy="287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6eb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82840" y="3651120"/>
            <a:ext cx="12333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286680" y="2519280"/>
            <a:ext cx="1991160" cy="357480"/>
            <a:chOff x="6286680" y="2519280"/>
            <a:chExt cx="1991160" cy="357480"/>
          </a:xfrm>
        </p:grpSpPr>
        <p:sp>
          <p:nvSpPr>
            <p:cNvPr id="76" name=""/>
            <p:cNvSpPr/>
            <p:nvPr/>
          </p:nvSpPr>
          <p:spPr>
            <a:xfrm flipV="1">
              <a:off x="6286680" y="2649240"/>
              <a:ext cx="587160" cy="15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98040" y="2519280"/>
              <a:ext cx="12798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86680" y="2838600"/>
            <a:ext cx="1832040" cy="369360"/>
            <a:chOff x="6286680" y="2838600"/>
            <a:chExt cx="1832040" cy="369360"/>
          </a:xfrm>
        </p:grpSpPr>
        <p:sp>
          <p:nvSpPr>
            <p:cNvPr id="79" name=""/>
            <p:cNvSpPr/>
            <p:nvPr/>
          </p:nvSpPr>
          <p:spPr>
            <a:xfrm>
              <a:off x="6286680" y="2838600"/>
              <a:ext cx="58716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91560" y="2850480"/>
              <a:ext cx="11271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icen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332400" y="4732200"/>
            <a:ext cx="1680120" cy="357480"/>
            <a:chOff x="6332400" y="4732200"/>
            <a:chExt cx="1680120" cy="357480"/>
          </a:xfrm>
        </p:grpSpPr>
        <p:sp>
          <p:nvSpPr>
            <p:cNvPr id="82" name=""/>
            <p:cNvSpPr/>
            <p:nvPr/>
          </p:nvSpPr>
          <p:spPr>
            <a:xfrm flipV="1">
              <a:off x="6332400" y="4880880"/>
              <a:ext cx="586800" cy="15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85800" y="4732200"/>
              <a:ext cx="10267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332400" y="5070600"/>
            <a:ext cx="1977480" cy="370800"/>
            <a:chOff x="6332400" y="5070600"/>
            <a:chExt cx="1977480" cy="370800"/>
          </a:xfrm>
        </p:grpSpPr>
        <p:sp>
          <p:nvSpPr>
            <p:cNvPr id="85" name=""/>
            <p:cNvSpPr/>
            <p:nvPr/>
          </p:nvSpPr>
          <p:spPr>
            <a:xfrm>
              <a:off x="6332400" y="5070600"/>
              <a:ext cx="586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42320" y="5083920"/>
              <a:ext cx="12675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 flipH="1" rot="16200000">
            <a:off x="4668840" y="4319640"/>
            <a:ext cx="192240" cy="287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6eb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01920" y="3676680"/>
            <a:ext cx="1679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now-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00880" y="3686040"/>
            <a:ext cx="1277640" cy="419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£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59520" y="500040"/>
            <a:ext cx="66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echnology Roadmap (TRM) - Sche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54280" y="1392120"/>
            <a:ext cx="6239880" cy="2908440"/>
            <a:chOff x="1754280" y="1392120"/>
            <a:chExt cx="6239880" cy="2908440"/>
          </a:xfrm>
        </p:grpSpPr>
        <p:sp>
          <p:nvSpPr>
            <p:cNvPr id="92" name=""/>
            <p:cNvSpPr/>
            <p:nvPr/>
          </p:nvSpPr>
          <p:spPr>
            <a:xfrm>
              <a:off x="3035160" y="1450800"/>
              <a:ext cx="4210920" cy="2849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39320" y="1392120"/>
              <a:ext cx="654840" cy="436680"/>
            </a:xfrm>
            <a:prstGeom prst="rightArrow">
              <a:avLst>
                <a:gd name="adj1" fmla="val 68750"/>
                <a:gd name="adj2" fmla="val 38829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41840" y="1419120"/>
              <a:ext cx="52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68400" y="1558800"/>
              <a:ext cx="111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usiness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92600" y="252252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roduct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4280" y="3597120"/>
              <a:ext cx="12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034800" y="2400120"/>
              <a:ext cx="42109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034800" y="3351240"/>
              <a:ext cx="42109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72480" y="3459240"/>
              <a:ext cx="1182960" cy="168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30040" y="2655720"/>
              <a:ext cx="1180800" cy="166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32440" y="3743280"/>
              <a:ext cx="1177560" cy="164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90600" y="4027320"/>
              <a:ext cx="1179720" cy="168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8440" y="2916000"/>
              <a:ext cx="1179360" cy="168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99520" y="1812960"/>
              <a:ext cx="221760" cy="20304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90080" y="1814400"/>
              <a:ext cx="219600" cy="20160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85400" y="3738600"/>
              <a:ext cx="1177920" cy="168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78840" y="2655720"/>
              <a:ext cx="1177560" cy="169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02440" y="2825640"/>
              <a:ext cx="0" cy="6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222880" y="307440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551640" y="282528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13000" y="274140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18640" y="3825720"/>
              <a:ext cx="26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55440" y="3543120"/>
              <a:ext cx="97560" cy="201600"/>
            </a:xfrm>
            <a:custGeom>
              <a:avLst/>
              <a:gdLst/>
              <a:ahLst/>
              <a:rect l="l" t="t" r="r" b="b"/>
              <a:pathLst>
                <a:path w="52" h="113">
                  <a:moveTo>
                    <a:pt x="0" y="0"/>
                  </a:moveTo>
                  <a:lnTo>
                    <a:pt x="52" y="0"/>
                  </a:lnTo>
                  <a:lnTo>
                    <a:pt x="52" y="1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3280" y="282564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62320" y="39081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965560" y="39081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04920" y="2016000"/>
              <a:ext cx="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14720" y="2016000"/>
              <a:ext cx="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71400" y="46213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enefi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09480" y="4618080"/>
            <a:ext cx="800172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ffective communication of developed technology strategy, and support for technology plann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xamples of companies that use roadmaps: Motorola, Philips, Lucent Technologies, ABB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3720" y="532908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hallen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7760" y="5329080"/>
            <a:ext cx="6265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How to start up roadmapping in the firm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How to keep roadmaps up-to-da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How to integrate roadmapping with other strategy and planning initiatives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04280" y="246240"/>
            <a:ext cx="560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RM as an integrating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25920" y="2813040"/>
            <a:ext cx="3570480" cy="1976400"/>
            <a:chOff x="3625920" y="2813040"/>
            <a:chExt cx="3570480" cy="1976400"/>
          </a:xfrm>
        </p:grpSpPr>
        <p:grpSp>
          <p:nvGrpSpPr>
            <p:cNvPr id="126" name=""/>
            <p:cNvGrpSpPr/>
            <p:nvPr/>
          </p:nvGrpSpPr>
          <p:grpSpPr>
            <a:xfrm>
              <a:off x="3625920" y="3027240"/>
              <a:ext cx="3517200" cy="1739520"/>
              <a:chOff x="3625920" y="3027240"/>
              <a:chExt cx="3517200" cy="1739520"/>
            </a:xfrm>
          </p:grpSpPr>
          <p:sp>
            <p:nvSpPr>
              <p:cNvPr id="127" name=""/>
              <p:cNvSpPr/>
              <p:nvPr/>
            </p:nvSpPr>
            <p:spPr>
              <a:xfrm>
                <a:off x="3625920" y="3027240"/>
                <a:ext cx="3517200" cy="1739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31320" y="3374280"/>
                <a:ext cx="3506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31320" y="3722040"/>
                <a:ext cx="3506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31320" y="4069800"/>
                <a:ext cx="3506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31320" y="4419000"/>
                <a:ext cx="350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71080" y="2873160"/>
              <a:ext cx="527760" cy="113760"/>
            </a:xfrm>
            <a:prstGeom prst="rightArrow">
              <a:avLst>
                <a:gd name="adj1" fmla="val 50000"/>
                <a:gd name="adj2" fmla="val 23202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88040" y="2813040"/>
              <a:ext cx="378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7920" y="3103200"/>
              <a:ext cx="45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73520" y="3441600"/>
              <a:ext cx="500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Produ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61200" y="3787560"/>
              <a:ext cx="657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81360" y="4076640"/>
              <a:ext cx="64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R&amp;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program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360" y="3130200"/>
              <a:ext cx="599760" cy="15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M 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92720" y="3130200"/>
              <a:ext cx="599760" cy="15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M 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91760" y="3206520"/>
              <a:ext cx="28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01480" y="3206520"/>
              <a:ext cx="2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90760" y="3439800"/>
              <a:ext cx="426240" cy="10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P 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31640" y="3439800"/>
              <a:ext cx="425880" cy="10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P 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30680" y="3497040"/>
              <a:ext cx="2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63880" y="3439800"/>
              <a:ext cx="428040" cy="10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P 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65080" y="3497040"/>
              <a:ext cx="2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66040" y="3576240"/>
              <a:ext cx="425880" cy="10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P 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99120" y="3635280"/>
              <a:ext cx="11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70120" y="3501720"/>
              <a:ext cx="2887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48400" y="3767040"/>
              <a:ext cx="459000" cy="113760"/>
            </a:xfrm>
            <a:prstGeom prst="hexagon">
              <a:avLst>
                <a:gd name="adj" fmla="val 100814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T 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5400" y="3916080"/>
              <a:ext cx="458640" cy="114120"/>
            </a:xfrm>
            <a:prstGeom prst="hexagon">
              <a:avLst>
                <a:gd name="adj" fmla="val 100417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T 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33480" y="3916080"/>
              <a:ext cx="459000" cy="114120"/>
            </a:xfrm>
            <a:prstGeom prst="hexagon">
              <a:avLst>
                <a:gd name="adj" fmla="val 10049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T 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8080" y="3973320"/>
              <a:ext cx="44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91720" y="3767040"/>
              <a:ext cx="458640" cy="113760"/>
            </a:xfrm>
            <a:prstGeom prst="hexagon">
              <a:avLst>
                <a:gd name="adj" fmla="val 100735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T 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07400" y="382392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14600" y="3828960"/>
              <a:ext cx="18360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4160" y="4101840"/>
              <a:ext cx="426240" cy="1314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RD 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32080" y="4101840"/>
              <a:ext cx="426240" cy="1314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RD 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7240" y="4171680"/>
              <a:ext cx="2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76840" y="4101840"/>
              <a:ext cx="425880" cy="1314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RD 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72360" y="4171680"/>
              <a:ext cx="2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1600" y="4101840"/>
              <a:ext cx="426240" cy="1314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RD 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7120" y="417168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0200" y="4251240"/>
              <a:ext cx="425880" cy="1314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RD 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1200" y="4251240"/>
              <a:ext cx="426240" cy="1314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 Narrow"/>
                </a:rPr>
                <a:t>RD 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15360" y="4176360"/>
              <a:ext cx="46764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6440" y="4319280"/>
              <a:ext cx="3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228720" y="3249360"/>
              <a:ext cx="0" cy="19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861160" y="353628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805280" y="3845880"/>
              <a:ext cx="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59960" y="3031920"/>
              <a:ext cx="0" cy="17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8480" y="4487760"/>
              <a:ext cx="614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Resour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80480" y="4449600"/>
              <a:ext cx="1041480" cy="63000"/>
            </a:xfrm>
            <a:custGeom>
              <a:avLst/>
              <a:gdLst>
                <a:gd name="textAreaLeft" fmla="*/ 0 w 1041480"/>
                <a:gd name="textAreaRight" fmla="*/ 1041840 w 1041480"/>
                <a:gd name="textAreaTop" fmla="*/ 0 h 63000"/>
                <a:gd name="textAreaBottom" fmla="*/ 63000 h 6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81" y="0"/>
                  </a:lnTo>
                  <a:lnTo>
                    <a:pt x="21600" y="10800"/>
                  </a:lnTo>
                  <a:lnTo>
                    <a:pt x="200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80480" y="4554360"/>
              <a:ext cx="1719360" cy="6624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54" y="0"/>
                  </a:lnTo>
                  <a:lnTo>
                    <a:pt x="21600" y="10800"/>
                  </a:lnTo>
                  <a:lnTo>
                    <a:pt x="2085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80480" y="4667040"/>
              <a:ext cx="2303640" cy="63000"/>
            </a:xfrm>
            <a:custGeom>
              <a:avLst/>
              <a:gdLst>
                <a:gd name="textAreaLeft" fmla="*/ 0 w 2303640"/>
                <a:gd name="textAreaRight" fmla="*/ 2304000 w 2303640"/>
                <a:gd name="textAreaTop" fmla="*/ 0 h 63000"/>
                <a:gd name="textAreaBottom" fmla="*/ 63000 h 6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156" y="0"/>
                  </a:lnTo>
                  <a:lnTo>
                    <a:pt x="21600" y="10800"/>
                  </a:lnTo>
                  <a:lnTo>
                    <a:pt x="2115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25920" y="4381200"/>
              <a:ext cx="11307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Capital investment / fi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15720" y="4593960"/>
              <a:ext cx="5806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Staff / skill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80760" y="4485960"/>
              <a:ext cx="6296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Supply cha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537320" y="3397320"/>
            <a:ext cx="1323720" cy="777600"/>
            <a:chOff x="7537320" y="3397320"/>
            <a:chExt cx="1323720" cy="777600"/>
          </a:xfrm>
        </p:grpSpPr>
        <p:sp>
          <p:nvSpPr>
            <p:cNvPr id="180" name=""/>
            <p:cNvSpPr/>
            <p:nvPr/>
          </p:nvSpPr>
          <p:spPr>
            <a:xfrm>
              <a:off x="7537320" y="3397320"/>
              <a:ext cx="1323720" cy="777600"/>
            </a:xfrm>
            <a:prstGeom prst="leftArrow">
              <a:avLst>
                <a:gd name="adj1" fmla="val 50000"/>
                <a:gd name="adj2" fmla="val 4255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01840" y="35859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Fores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706000" y="1103760"/>
            <a:ext cx="1130760" cy="1720080"/>
            <a:chOff x="5706000" y="1103760"/>
            <a:chExt cx="1130760" cy="1720080"/>
          </a:xfrm>
        </p:grpSpPr>
        <p:sp>
          <p:nvSpPr>
            <p:cNvPr id="183" name=""/>
            <p:cNvSpPr/>
            <p:nvPr/>
          </p:nvSpPr>
          <p:spPr>
            <a:xfrm rot="16866600">
              <a:off x="5477400" y="1543320"/>
              <a:ext cx="1587600" cy="840960"/>
            </a:xfrm>
            <a:prstGeom prst="leftArrow">
              <a:avLst>
                <a:gd name="adj1" fmla="val 50000"/>
                <a:gd name="adj2" fmla="val 4719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866600">
              <a:off x="5461200" y="1748160"/>
              <a:ext cx="157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Market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240200" y="4112640"/>
            <a:ext cx="2057040" cy="1226880"/>
            <a:chOff x="1240200" y="4112640"/>
            <a:chExt cx="2057040" cy="1226880"/>
          </a:xfrm>
        </p:grpSpPr>
        <p:sp>
          <p:nvSpPr>
            <p:cNvPr id="186" name=""/>
            <p:cNvSpPr/>
            <p:nvPr/>
          </p:nvSpPr>
          <p:spPr>
            <a:xfrm flipH="1" rot="20747400">
              <a:off x="1306080" y="4336920"/>
              <a:ext cx="1924920" cy="777960"/>
            </a:xfrm>
            <a:prstGeom prst="leftArrow">
              <a:avLst>
                <a:gd name="adj1" fmla="val 50000"/>
                <a:gd name="adj2" fmla="val 6185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20747400">
              <a:off x="1355400" y="453924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Technology au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11760" y="2199240"/>
            <a:ext cx="1779840" cy="1231560"/>
            <a:chOff x="1211760" y="2199240"/>
            <a:chExt cx="1779840" cy="1231560"/>
          </a:xfrm>
        </p:grpSpPr>
        <p:sp>
          <p:nvSpPr>
            <p:cNvPr id="189" name=""/>
            <p:cNvSpPr/>
            <p:nvPr/>
          </p:nvSpPr>
          <p:spPr>
            <a:xfrm flipH="1" rot="1056600">
              <a:off x="1291320" y="2426040"/>
              <a:ext cx="1620360" cy="777960"/>
            </a:xfrm>
            <a:prstGeom prst="leftArrow">
              <a:avLst>
                <a:gd name="adj1" fmla="val 50000"/>
                <a:gd name="adj2" fmla="val 52071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1056600">
              <a:off x="1337400" y="2608200"/>
              <a:ext cx="14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Benchmar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081520" y="4536360"/>
            <a:ext cx="1885680" cy="1990440"/>
            <a:chOff x="2081520" y="4536360"/>
            <a:chExt cx="1885680" cy="1990440"/>
          </a:xfrm>
        </p:grpSpPr>
        <p:sp>
          <p:nvSpPr>
            <p:cNvPr id="192" name=""/>
            <p:cNvSpPr/>
            <p:nvPr/>
          </p:nvSpPr>
          <p:spPr>
            <a:xfrm flipH="1" rot="18660600">
              <a:off x="2071800" y="5109840"/>
              <a:ext cx="1904760" cy="842760"/>
            </a:xfrm>
            <a:prstGeom prst="leftArrow">
              <a:avLst>
                <a:gd name="adj1" fmla="val 50000"/>
                <a:gd name="adj2" fmla="val 5650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8660600">
              <a:off x="2061720" y="5384160"/>
              <a:ext cx="179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R&amp;D 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813200" y="5180400"/>
            <a:ext cx="842760" cy="1019160"/>
            <a:chOff x="4813200" y="5180400"/>
            <a:chExt cx="842760" cy="1019160"/>
          </a:xfrm>
        </p:grpSpPr>
        <p:sp>
          <p:nvSpPr>
            <p:cNvPr id="195" name=""/>
            <p:cNvSpPr/>
            <p:nvPr/>
          </p:nvSpPr>
          <p:spPr>
            <a:xfrm flipH="1" rot="16200000">
              <a:off x="4728600" y="5264640"/>
              <a:ext cx="1011240" cy="842760"/>
            </a:xfrm>
            <a:prstGeom prst="leftArrow">
              <a:avLst>
                <a:gd name="adj1" fmla="val 50000"/>
                <a:gd name="adj2" fmla="val 2999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rot="16200000">
              <a:off x="4703040" y="5514840"/>
              <a:ext cx="100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Allia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705640" y="4666320"/>
            <a:ext cx="1364760" cy="1785600"/>
            <a:chOff x="5705640" y="4666320"/>
            <a:chExt cx="1364760" cy="1785600"/>
          </a:xfrm>
        </p:grpSpPr>
        <p:sp>
          <p:nvSpPr>
            <p:cNvPr id="198" name=""/>
            <p:cNvSpPr/>
            <p:nvPr/>
          </p:nvSpPr>
          <p:spPr>
            <a:xfrm rot="4113600">
              <a:off x="5594040" y="5137560"/>
              <a:ext cx="1587240" cy="842760"/>
            </a:xfrm>
            <a:prstGeom prst="leftArrow">
              <a:avLst>
                <a:gd name="adj1" fmla="val 50000"/>
                <a:gd name="adj2" fmla="val 4708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4113600">
              <a:off x="5711400" y="5437080"/>
              <a:ext cx="14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Manufactu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156440" y="2247120"/>
            <a:ext cx="1261800" cy="1205280"/>
            <a:chOff x="7156440" y="2247120"/>
            <a:chExt cx="1261800" cy="1205280"/>
          </a:xfrm>
        </p:grpSpPr>
        <p:sp>
          <p:nvSpPr>
            <p:cNvPr id="201" name=""/>
            <p:cNvSpPr/>
            <p:nvPr/>
          </p:nvSpPr>
          <p:spPr>
            <a:xfrm rot="19534800">
              <a:off x="7288920" y="2460600"/>
              <a:ext cx="996120" cy="778320"/>
            </a:xfrm>
            <a:prstGeom prst="leftArrow">
              <a:avLst>
                <a:gd name="adj1" fmla="val 50000"/>
                <a:gd name="adj2" fmla="val 3199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9534800">
              <a:off x="7366680" y="263232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685560" y="4721040"/>
            <a:ext cx="1244880" cy="1246680"/>
            <a:chOff x="6685560" y="4721040"/>
            <a:chExt cx="1244880" cy="1246680"/>
          </a:xfrm>
        </p:grpSpPr>
        <p:sp>
          <p:nvSpPr>
            <p:cNvPr id="204" name=""/>
            <p:cNvSpPr/>
            <p:nvPr/>
          </p:nvSpPr>
          <p:spPr>
            <a:xfrm rot="2757000">
              <a:off x="6848280" y="4922640"/>
              <a:ext cx="919080" cy="843120"/>
            </a:xfrm>
            <a:prstGeom prst="leftArrow">
              <a:avLst>
                <a:gd name="adj1" fmla="val 50000"/>
                <a:gd name="adj2" fmla="val 2725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757000">
              <a:off x="6893640" y="515664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544560" y="4840200"/>
            <a:ext cx="1221120" cy="1527120"/>
            <a:chOff x="3544560" y="4840200"/>
            <a:chExt cx="1221120" cy="1527120"/>
          </a:xfrm>
        </p:grpSpPr>
        <p:sp>
          <p:nvSpPr>
            <p:cNvPr id="207" name=""/>
            <p:cNvSpPr/>
            <p:nvPr/>
          </p:nvSpPr>
          <p:spPr>
            <a:xfrm flipH="1" rot="17313000">
              <a:off x="3490560" y="5182560"/>
              <a:ext cx="1328400" cy="842400"/>
            </a:xfrm>
            <a:prstGeom prst="leftArrow">
              <a:avLst>
                <a:gd name="adj1" fmla="val 50000"/>
                <a:gd name="adj2" fmla="val 3942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rot="17313000">
              <a:off x="3478680" y="545940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Engine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96600" y="3362400"/>
            <a:ext cx="2765160" cy="777960"/>
            <a:chOff x="696600" y="3362400"/>
            <a:chExt cx="2765160" cy="777960"/>
          </a:xfrm>
        </p:grpSpPr>
        <p:sp>
          <p:nvSpPr>
            <p:cNvPr id="210" name=""/>
            <p:cNvSpPr/>
            <p:nvPr/>
          </p:nvSpPr>
          <p:spPr>
            <a:xfrm flipH="1">
              <a:off x="696240" y="3362400"/>
              <a:ext cx="2765160" cy="777960"/>
            </a:xfrm>
            <a:prstGeom prst="leftArrow">
              <a:avLst>
                <a:gd name="adj1" fmla="val 50000"/>
                <a:gd name="adj2" fmla="val 8885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76160" y="3553200"/>
              <a:ext cx="24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New product int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875240" y="979920"/>
            <a:ext cx="1984320" cy="2094840"/>
            <a:chOff x="1875240" y="979920"/>
            <a:chExt cx="1984320" cy="2094840"/>
          </a:xfrm>
        </p:grpSpPr>
        <p:sp>
          <p:nvSpPr>
            <p:cNvPr id="213" name=""/>
            <p:cNvSpPr/>
            <p:nvPr/>
          </p:nvSpPr>
          <p:spPr>
            <a:xfrm flipH="1" rot="2923800">
              <a:off x="1843200" y="1605600"/>
              <a:ext cx="2047680" cy="842760"/>
            </a:xfrm>
            <a:prstGeom prst="leftArrow">
              <a:avLst>
                <a:gd name="adj1" fmla="val 50000"/>
                <a:gd name="adj2" fmla="val 6074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2923800">
              <a:off x="1860480" y="1794240"/>
              <a:ext cx="20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Strategy for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808520" y="995040"/>
            <a:ext cx="842760" cy="1822320"/>
            <a:chOff x="4808520" y="995040"/>
            <a:chExt cx="842760" cy="1822320"/>
          </a:xfrm>
        </p:grpSpPr>
        <p:sp>
          <p:nvSpPr>
            <p:cNvPr id="216" name=""/>
            <p:cNvSpPr/>
            <p:nvPr/>
          </p:nvSpPr>
          <p:spPr>
            <a:xfrm rot="16200000">
              <a:off x="4318560" y="1484640"/>
              <a:ext cx="1822320" cy="842760"/>
            </a:xfrm>
            <a:prstGeom prst="leftArrow">
              <a:avLst>
                <a:gd name="adj1" fmla="val 50000"/>
                <a:gd name="adj2" fmla="val 5405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4392360" y="1663920"/>
              <a:ext cx="169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Risk assess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346160" y="4192560"/>
            <a:ext cx="1609560" cy="1076400"/>
            <a:chOff x="7346160" y="4192560"/>
            <a:chExt cx="1609560" cy="1076400"/>
          </a:xfrm>
        </p:grpSpPr>
        <p:sp>
          <p:nvSpPr>
            <p:cNvPr id="219" name=""/>
            <p:cNvSpPr/>
            <p:nvPr/>
          </p:nvSpPr>
          <p:spPr>
            <a:xfrm rot="743400">
              <a:off x="7412040" y="4341960"/>
              <a:ext cx="1477440" cy="777600"/>
            </a:xfrm>
            <a:prstGeom prst="leftArrow">
              <a:avLst>
                <a:gd name="adj1" fmla="val 50000"/>
                <a:gd name="adj2" fmla="val 47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743400">
              <a:off x="7588440" y="4542840"/>
              <a:ext cx="12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Foreca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699360" y="1472760"/>
            <a:ext cx="1028880" cy="1048680"/>
            <a:chOff x="3699360" y="1472760"/>
            <a:chExt cx="1028880" cy="1048680"/>
          </a:xfrm>
        </p:grpSpPr>
        <p:sp>
          <p:nvSpPr>
            <p:cNvPr id="222" name=""/>
            <p:cNvSpPr/>
            <p:nvPr/>
          </p:nvSpPr>
          <p:spPr>
            <a:xfrm flipH="1" rot="4554600">
              <a:off x="3778560" y="1575720"/>
              <a:ext cx="869760" cy="842400"/>
            </a:xfrm>
            <a:prstGeom prst="leftArrow">
              <a:avLst>
                <a:gd name="adj1" fmla="val 50000"/>
                <a:gd name="adj2" fmla="val 2581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4555200">
              <a:off x="3903840" y="171288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Ski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570360" y="1365840"/>
            <a:ext cx="1297080" cy="1469160"/>
            <a:chOff x="6570360" y="1365840"/>
            <a:chExt cx="1297080" cy="1469160"/>
          </a:xfrm>
        </p:grpSpPr>
        <p:sp>
          <p:nvSpPr>
            <p:cNvPr id="225" name=""/>
            <p:cNvSpPr/>
            <p:nvPr/>
          </p:nvSpPr>
          <p:spPr>
            <a:xfrm rot="17777400">
              <a:off x="6607440" y="1679040"/>
              <a:ext cx="1222200" cy="842760"/>
            </a:xfrm>
            <a:prstGeom prst="leftArrow">
              <a:avLst>
                <a:gd name="adj1" fmla="val 50000"/>
                <a:gd name="adj2" fmla="val 3625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7777400">
              <a:off x="6695280" y="190872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21960" y="2849400"/>
            <a:ext cx="815544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 support the start-up of company-specific TRM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 establish key linkages between technology resources and business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 identify important gaps in market, product and technology 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 develop a ‘first-cut’ technology route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 support technology strategy and planning initiatives in the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 support communication between technical and commercial fun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1012680"/>
            <a:ext cx="811224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T-Plan: Fast-Start Technology Road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012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920" y="3557520"/>
            <a:ext cx="27936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6236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70360" y="3557520"/>
            <a:ext cx="28116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2280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34040" y="3557520"/>
            <a:ext cx="27792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8504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864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76920" y="270972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2224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9276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h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8760" y="3452760"/>
            <a:ext cx="17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ket /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orit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89360" y="3452760"/>
            <a:ext cx="166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duct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u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act r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duc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69960" y="3452760"/>
            <a:ext cx="15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u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act r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0920" y="3452760"/>
            <a:ext cx="143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in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source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ture mar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5092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0848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8476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4700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9080" y="701640"/>
            <a:ext cx="811224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T-Plan: Fast-Start Technology Road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952720" y="2044800"/>
            <a:ext cx="5138640" cy="347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61200" y="1554120"/>
            <a:ext cx="800280" cy="420840"/>
          </a:xfrm>
          <a:prstGeom prst="rightArrow">
            <a:avLst>
              <a:gd name="adj1" fmla="val 68750"/>
              <a:gd name="adj2" fmla="val 4924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97560" y="15559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00400" y="231444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77880" y="356868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37680" y="47242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952720" y="3203640"/>
            <a:ext cx="5138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952720" y="4362480"/>
            <a:ext cx="5138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249960" y="2519280"/>
            <a:ext cx="1483560" cy="1369440"/>
            <a:chOff x="6249960" y="2519280"/>
            <a:chExt cx="1483560" cy="1369440"/>
          </a:xfrm>
        </p:grpSpPr>
        <p:sp>
          <p:nvSpPr>
            <p:cNvPr id="258" name=""/>
            <p:cNvSpPr/>
            <p:nvPr/>
          </p:nvSpPr>
          <p:spPr>
            <a:xfrm>
              <a:off x="624996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46240" y="251928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4360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3988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36520" y="251928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996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46240" y="27936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4360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3988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6520" y="27936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4996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46240" y="30672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360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3988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36520" y="30672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996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46240" y="334080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4360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3988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36520" y="334080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996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46240" y="361512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4360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3988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36520" y="361512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rot="16200000">
            <a:off x="5262120" y="3045600"/>
            <a:ext cx="1503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33080" y="213372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siness / Market 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30520" y="3678120"/>
            <a:ext cx="1483560" cy="1369440"/>
            <a:chOff x="3530520" y="3678120"/>
            <a:chExt cx="1483560" cy="1369440"/>
          </a:xfrm>
        </p:grpSpPr>
        <p:sp>
          <p:nvSpPr>
            <p:cNvPr id="286" name=""/>
            <p:cNvSpPr/>
            <p:nvPr/>
          </p:nvSpPr>
          <p:spPr>
            <a:xfrm>
              <a:off x="353052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26800" y="367812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2416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2044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17080" y="367812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3052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26800" y="39524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2416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2044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17080" y="39524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3052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26800" y="42260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2416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2044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17080" y="42260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052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26800" y="449964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2416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2044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17080" y="449964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3052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26800" y="477396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2416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2044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17080" y="477396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H="1" rot="16200000">
            <a:off x="4692960" y="2222280"/>
            <a:ext cx="257040" cy="2127240"/>
          </a:xfrm>
          <a:custGeom>
            <a:avLst/>
            <a:gdLst>
              <a:gd name="textAreaLeft" fmla="*/ 360 w 257040"/>
              <a:gd name="textAreaRight" fmla="*/ 257760 w 257040"/>
              <a:gd name="textAreaTop" fmla="*/ 0 h 2127240"/>
              <a:gd name="textAreaBottom" fmla="*/ 2127600 h 2127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35200" y="3355920"/>
            <a:ext cx="150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2273760" y="4238280"/>
            <a:ext cx="190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ology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79680" y="1125360"/>
            <a:ext cx="242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81600" y="1413000"/>
            <a:ext cx="798480" cy="11588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0"/>
                </a:moveTo>
                <a:lnTo>
                  <a:pt x="96" y="0"/>
                </a:lnTo>
                <a:lnTo>
                  <a:pt x="528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73600" y="5100480"/>
            <a:ext cx="569880" cy="10540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864"/>
                </a:moveTo>
                <a:lnTo>
                  <a:pt x="144" y="864"/>
                </a:lnTo>
                <a:lnTo>
                  <a:pt x="4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040280" y="3968640"/>
            <a:ext cx="2852640" cy="219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71720" y="5848200"/>
            <a:ext cx="19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42920" y="411120"/>
            <a:ext cx="62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Roadmap Input Data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2:27:48Z</dcterms:created>
  <dc:creator>Rob Phaal</dc:creator>
  <dc:description/>
  <dc:language>en-US</dc:language>
  <cp:lastModifiedBy>rp108</cp:lastModifiedBy>
  <cp:lastPrinted>1999-11-01T11:35:28Z</cp:lastPrinted>
  <dcterms:modified xsi:type="dcterms:W3CDTF">2001-10-23T13:13:15Z</dcterms:modified>
  <cp:revision>80</cp:revision>
  <dc:subject/>
  <dc:title>No Slide Title</dc:title>
</cp:coreProperties>
</file>