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307440" y="228600"/>
            <a:ext cx="9141480" cy="6462720"/>
            <a:chOff x="307440" y="228600"/>
            <a:chExt cx="9141480" cy="6462720"/>
          </a:xfrm>
        </p:grpSpPr>
        <p:sp>
          <p:nvSpPr>
            <p:cNvPr id="39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80880" y="1357200"/>
              <a:ext cx="9068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07440" y="990720"/>
              <a:ext cx="32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cope / focus / unit of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0880" y="5167440"/>
              <a:ext cx="906804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8880" y="480060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levant 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0880" y="6310440"/>
              <a:ext cx="9068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520" y="5943600"/>
              <a:ext cx="21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chedule / 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24480" y="2263680"/>
              <a:ext cx="3124440" cy="246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66880" y="189396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ticip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680" y="190980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0200" y="1971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4200" y="2124000"/>
              <a:ext cx="0" cy="260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72960" y="2262240"/>
              <a:ext cx="5760720" cy="2469960"/>
              <a:chOff x="372960" y="2262240"/>
              <a:chExt cx="5760720" cy="2469960"/>
            </a:xfrm>
          </p:grpSpPr>
          <p:sp>
            <p:nvSpPr>
              <p:cNvPr id="53" name=""/>
              <p:cNvSpPr/>
              <p:nvPr/>
            </p:nvSpPr>
            <p:spPr>
              <a:xfrm>
                <a:off x="372960" y="2262240"/>
                <a:ext cx="5760720" cy="307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2960" y="2570040"/>
                <a:ext cx="5760720" cy="30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2960" y="2879640"/>
                <a:ext cx="5760720" cy="30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960" y="3187800"/>
                <a:ext cx="5760720" cy="30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2960" y="3497400"/>
                <a:ext cx="5760720" cy="30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2960" y="3807000"/>
                <a:ext cx="5760720" cy="307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2960" y="4114800"/>
                <a:ext cx="5760720" cy="30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2960" y="4424400"/>
                <a:ext cx="5760720" cy="307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2960" y="2262240"/>
                <a:ext cx="5760720" cy="246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278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2 -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2040" y="990720"/>
              <a:ext cx="33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ouped product feature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2040" y="1052640"/>
              <a:ext cx="30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 / constituent product fea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80880" y="1127160"/>
              <a:ext cx="9068040" cy="5334120"/>
              <a:chOff x="380880" y="1127160"/>
              <a:chExt cx="9068040" cy="5334120"/>
            </a:xfrm>
          </p:grpSpPr>
          <p:sp>
            <p:nvSpPr>
              <p:cNvPr id="284" name=""/>
              <p:cNvSpPr/>
              <p:nvPr/>
            </p:nvSpPr>
            <p:spPr>
              <a:xfrm>
                <a:off x="475308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212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380880" y="1355760"/>
                <a:ext cx="9068040" cy="5105160"/>
                <a:chOff x="380880" y="1355760"/>
                <a:chExt cx="9068040" cy="51051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80880" y="13557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80880" y="18662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80880" y="237672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0880" y="28872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80880" y="33976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0880" y="39081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0880" y="44190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0880" y="49294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0880" y="54399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80880" y="59504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80880" y="1355760"/>
                  <a:ext cx="9068040" cy="5105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380880" y="228600"/>
            <a:ext cx="9458640" cy="6566040"/>
            <a:chOff x="380880" y="228600"/>
            <a:chExt cx="9458640" cy="6566040"/>
          </a:xfrm>
        </p:grpSpPr>
        <p:sp>
          <p:nvSpPr>
            <p:cNvPr id="299" name=""/>
            <p:cNvSpPr/>
            <p:nvPr/>
          </p:nvSpPr>
          <p:spPr>
            <a:xfrm>
              <a:off x="2736720" y="2411280"/>
              <a:ext cx="4906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2740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628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05160" y="241128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94400" y="241128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8472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73600" y="241128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62840" y="241128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5316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2040" y="241128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31280" y="241128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2160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36720" y="276552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2740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1628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05160" y="27655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94400" y="27655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472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3600" y="27655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62840" y="27655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5316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2040" y="27655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31280" y="27655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2160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36720" y="311796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2740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1628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05160" y="311796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94400" y="311796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8472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73600" y="311796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62840" y="311796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5316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42040" y="311796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31280" y="311796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2160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6720" y="347184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2740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1628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05160" y="347184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94400" y="347184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472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3600" y="347184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62840" y="347184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5316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42040" y="347184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31280" y="347184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2160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382572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2740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1628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05160" y="38257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94400" y="38257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8472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73600" y="38257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62840" y="38257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5316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42040" y="38257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31280" y="38257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2160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6720" y="4178160"/>
              <a:ext cx="4906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2740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1628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5160" y="417816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94400" y="417816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472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73600" y="417816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2840" y="417816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5316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42040" y="417816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31280" y="417816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2160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36720" y="453240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2740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1628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05160" y="453240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94400" y="453240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472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73600" y="453240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62840" y="453240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316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42040" y="453240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31280" y="453240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2160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488628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2740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1628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05160" y="488628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94400" y="488628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472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73600" y="488628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62840" y="488628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5316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42040" y="488628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31280" y="488628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2160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6720" y="523872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2740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1628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05160" y="523872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94400" y="523872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472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73600" y="523872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62840" y="523872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5316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42040" y="523872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31280" y="523872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2160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6720" y="5592600"/>
              <a:ext cx="4906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2740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1628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05160" y="559260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94400" y="559260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8472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73600" y="559260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62840" y="559260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5316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42040" y="559260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31280" y="559260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2160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36720" y="594684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2740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1628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5160" y="594684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94400" y="594684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8472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73600" y="594684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62840" y="594684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5316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42040" y="594684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31280" y="594684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2160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629928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2740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1628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5160" y="629928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94400" y="629928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472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73600" y="629928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2840" y="629928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5316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2040" y="629928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31280" y="629928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2160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9080" y="2411280"/>
              <a:ext cx="18176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9080" y="276552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19080" y="311796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19080" y="347184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19080" y="382572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19080" y="4178160"/>
              <a:ext cx="18176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9080" y="453240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19080" y="488628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19080" y="523872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19080" y="5592600"/>
              <a:ext cx="18176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19080" y="594684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9080" y="629928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9240" y="2341440"/>
              <a:ext cx="139680" cy="445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36720" y="998640"/>
              <a:ext cx="4906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2740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1628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05160" y="998640"/>
              <a:ext cx="48924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4400" y="998640"/>
              <a:ext cx="49032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472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73600" y="998640"/>
              <a:ext cx="48924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62840" y="998640"/>
              <a:ext cx="49032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5316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2040" y="998640"/>
              <a:ext cx="48924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31280" y="998640"/>
              <a:ext cx="49032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2160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66880" y="927000"/>
              <a:ext cx="6096240" cy="1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-232560" y="431280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 /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82160" y="2128680"/>
              <a:ext cx="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686800" y="2392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52960" y="2184480"/>
              <a:ext cx="118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Market   Busin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13720" y="185436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Priorit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61640" y="77004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rket / Bus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2 -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07080" y="228600"/>
            <a:ext cx="9141840" cy="6324480"/>
            <a:chOff x="307080" y="228600"/>
            <a:chExt cx="9141840" cy="6324480"/>
          </a:xfrm>
        </p:grpSpPr>
        <p:sp>
          <p:nvSpPr>
            <p:cNvPr id="478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2 -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880" y="1128600"/>
              <a:ext cx="9068040" cy="1309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7080" y="762120"/>
              <a:ext cx="18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 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2040" y="262260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ps in 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08440" y="2684520"/>
              <a:ext cx="45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Sources of information and mechanisms for filling g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8120" y="2684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0880" y="2803680"/>
              <a:ext cx="9068040" cy="3749400"/>
              <a:chOff x="380880" y="2803680"/>
              <a:chExt cx="9068040" cy="3749400"/>
            </a:xfrm>
          </p:grpSpPr>
          <p:sp>
            <p:nvSpPr>
              <p:cNvPr id="486" name=""/>
              <p:cNvSpPr/>
              <p:nvPr/>
            </p:nvSpPr>
            <p:spPr>
              <a:xfrm>
                <a:off x="4753080" y="2803680"/>
                <a:ext cx="0" cy="374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2120" y="2803680"/>
                <a:ext cx="0" cy="374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380880" y="2964240"/>
                <a:ext cx="9068040" cy="3588480"/>
                <a:chOff x="380880" y="2964240"/>
                <a:chExt cx="9068040" cy="35884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80880" y="296424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80880" y="332280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0880" y="368172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80880" y="404064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80880" y="439956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80880" y="475848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0880" y="511704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80880" y="547596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80880" y="583488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80880" y="619380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80880" y="2964240"/>
                  <a:ext cx="9068040" cy="35884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501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3 -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8800" y="990720"/>
              <a:ext cx="42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chnology solutions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(for Product Feature #….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44040" y="10526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3396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212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80880" y="1355760"/>
              <a:ext cx="9068040" cy="5105160"/>
              <a:chOff x="380880" y="1355760"/>
              <a:chExt cx="9068040" cy="5105160"/>
            </a:xfrm>
          </p:grpSpPr>
          <p:sp>
            <p:nvSpPr>
              <p:cNvPr id="509" name=""/>
              <p:cNvSpPr/>
              <p:nvPr/>
            </p:nvSpPr>
            <p:spPr>
              <a:xfrm>
                <a:off x="380880" y="13557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0880" y="18662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80880" y="237672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80880" y="28872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880" y="33976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0880" y="39081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80880" y="44190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0880" y="49294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0880" y="54399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80880" y="59504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80880" y="1355760"/>
                <a:ext cx="9068040" cy="510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521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3 -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2760" y="990720"/>
              <a:ext cx="286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ouped technolog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11680" y="1052640"/>
              <a:ext cx="333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 / constituent technology sol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80880" y="1127160"/>
              <a:ext cx="9068040" cy="5334120"/>
              <a:chOff x="380880" y="1127160"/>
              <a:chExt cx="9068040" cy="5334120"/>
            </a:xfrm>
          </p:grpSpPr>
          <p:sp>
            <p:nvSpPr>
              <p:cNvPr id="527" name=""/>
              <p:cNvSpPr/>
              <p:nvPr/>
            </p:nvSpPr>
            <p:spPr>
              <a:xfrm>
                <a:off x="475308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6212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380880" y="1355760"/>
                <a:ext cx="9068040" cy="5105160"/>
                <a:chOff x="380880" y="1355760"/>
                <a:chExt cx="9068040" cy="51051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80880" y="13557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0880" y="18662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80880" y="237672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0880" y="28872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0880" y="33976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80880" y="39081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80880" y="44190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80880" y="49294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80880" y="54399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80880" y="59504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0880" y="1355760"/>
                  <a:ext cx="9068040" cy="5105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80880" y="228600"/>
            <a:ext cx="9458640" cy="6566040"/>
            <a:chOff x="380880" y="228600"/>
            <a:chExt cx="9458640" cy="6566040"/>
          </a:xfrm>
        </p:grpSpPr>
        <p:sp>
          <p:nvSpPr>
            <p:cNvPr id="542" name=""/>
            <p:cNvSpPr/>
            <p:nvPr/>
          </p:nvSpPr>
          <p:spPr>
            <a:xfrm>
              <a:off x="2736720" y="2411280"/>
              <a:ext cx="4906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2740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1628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5160" y="241128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94400" y="241128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8472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73600" y="241128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62840" y="241128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5316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42040" y="241128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31280" y="241128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21600" y="241128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36720" y="276552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2740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628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05160" y="27655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94400" y="27655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8472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3600" y="27655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62840" y="27655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5316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2040" y="27655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31280" y="27655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121600" y="27655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36720" y="311796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2740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1628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05160" y="311796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94400" y="311796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8472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73600" y="311796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62840" y="311796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316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42040" y="311796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31280" y="311796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21600" y="311796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36720" y="347184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740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1628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05160" y="347184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94400" y="347184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8472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73600" y="347184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62840" y="347184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5316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42040" y="347184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31280" y="347184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21600" y="347184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36720" y="382572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2740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1628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05160" y="38257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94400" y="38257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72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73600" y="38257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62840" y="38257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5316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42040" y="382572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31280" y="382572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21600" y="382572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36720" y="4178160"/>
              <a:ext cx="4906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2740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1628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05160" y="417816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94400" y="417816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8472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73600" y="417816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62840" y="417816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5316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42040" y="417816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31280" y="417816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121600" y="417816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36720" y="453240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2740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628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05160" y="453240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94400" y="453240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8472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73600" y="453240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62840" y="453240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5316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42040" y="453240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31280" y="453240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21600" y="453240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36720" y="488628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2740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1628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05160" y="488628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94400" y="488628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472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73600" y="488628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62840" y="488628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5316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42040" y="488628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31280" y="488628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21600" y="488628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36720" y="523872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2740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1628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05160" y="523872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94400" y="523872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8472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673600" y="523872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62840" y="523872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5316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42040" y="523872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31280" y="523872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21600" y="523872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36720" y="5592600"/>
              <a:ext cx="4906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740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1628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05160" y="559260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94400" y="559260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8472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73600" y="559260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62840" y="559260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5316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142040" y="5592600"/>
              <a:ext cx="4892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31280" y="5592600"/>
              <a:ext cx="49032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21600" y="5592600"/>
              <a:ext cx="48888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36720" y="5946840"/>
              <a:ext cx="4906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2740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1628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05160" y="594684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94400" y="594684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8472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3600" y="594684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62840" y="594684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5316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42040" y="5946840"/>
              <a:ext cx="4892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31280" y="5946840"/>
              <a:ext cx="49032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21600" y="5946840"/>
              <a:ext cx="48888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36720" y="6299280"/>
              <a:ext cx="4906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2740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1628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05160" y="629928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94400" y="629928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8472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73600" y="629928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62840" y="629928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5316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42040" y="6299280"/>
              <a:ext cx="4892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31280" y="6299280"/>
              <a:ext cx="49032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121600" y="6299280"/>
              <a:ext cx="48888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19080" y="2411280"/>
              <a:ext cx="18176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19080" y="276552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19080" y="311796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19080" y="347184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19080" y="382572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19080" y="4178160"/>
              <a:ext cx="18176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19080" y="453240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19080" y="488628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19080" y="523872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19080" y="5592600"/>
              <a:ext cx="1817640" cy="35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19080" y="5946840"/>
              <a:ext cx="1817640" cy="35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19080" y="6299280"/>
              <a:ext cx="1817640" cy="35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9240" y="2341440"/>
              <a:ext cx="139680" cy="445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36720" y="998640"/>
              <a:ext cx="4906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2740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1628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05160" y="998640"/>
              <a:ext cx="48924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94400" y="998640"/>
              <a:ext cx="49032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73600" y="998640"/>
              <a:ext cx="48924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62840" y="998640"/>
              <a:ext cx="49032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65316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2040" y="998640"/>
              <a:ext cx="48924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31280" y="998640"/>
              <a:ext cx="49032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21600" y="998640"/>
              <a:ext cx="488880" cy="141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666880" y="927000"/>
              <a:ext cx="6096240" cy="1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-280080" y="431136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chnolog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182160" y="2128680"/>
              <a:ext cx="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86800" y="2392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652960" y="2184480"/>
              <a:ext cx="118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Market   Busin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613720" y="185436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Priorit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9440" y="77004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 /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3 -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721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3 -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42040" y="99072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ps in 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08440" y="1052640"/>
              <a:ext cx="45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Sources of information and mechanisms for filling g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380880" y="1127160"/>
              <a:ext cx="9068040" cy="5334120"/>
              <a:chOff x="380880" y="1127160"/>
              <a:chExt cx="9068040" cy="5334120"/>
            </a:xfrm>
          </p:grpSpPr>
          <p:sp>
            <p:nvSpPr>
              <p:cNvPr id="727" name=""/>
              <p:cNvSpPr/>
              <p:nvPr/>
            </p:nvSpPr>
            <p:spPr>
              <a:xfrm>
                <a:off x="475308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12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380880" y="1355760"/>
                <a:ext cx="9068040" cy="5105160"/>
                <a:chOff x="380880" y="1355760"/>
                <a:chExt cx="9068040" cy="51051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80880" y="13557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8662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80880" y="237672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80880" y="28872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33976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0880" y="39081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80880" y="44190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49294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80880" y="54399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80880" y="59504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1355760"/>
                  <a:ext cx="9068040" cy="5105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308160" y="228600"/>
            <a:ext cx="9140760" cy="6400800"/>
            <a:chOff x="308160" y="228600"/>
            <a:chExt cx="9140760" cy="6400800"/>
          </a:xfrm>
        </p:grpSpPr>
        <p:sp>
          <p:nvSpPr>
            <p:cNvPr id="742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4 - Cha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880" y="5319720"/>
              <a:ext cx="9068040" cy="1309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160" y="4952880"/>
              <a:ext cx="38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ments on process / way for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2040" y="94608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ps in 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08440" y="1008000"/>
              <a:ext cx="45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Sources of information and mechanisms for filling g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8120" y="1008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380880" y="1127160"/>
              <a:ext cx="9068040" cy="3749760"/>
              <a:chOff x="380880" y="1127160"/>
              <a:chExt cx="9068040" cy="3749760"/>
            </a:xfrm>
          </p:grpSpPr>
          <p:sp>
            <p:nvSpPr>
              <p:cNvPr id="750" name=""/>
              <p:cNvSpPr/>
              <p:nvPr/>
            </p:nvSpPr>
            <p:spPr>
              <a:xfrm>
                <a:off x="4753080" y="1127160"/>
                <a:ext cx="0" cy="374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120" y="1127160"/>
                <a:ext cx="0" cy="374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380880" y="1287720"/>
                <a:ext cx="9068040" cy="3588840"/>
                <a:chOff x="380880" y="1287720"/>
                <a:chExt cx="9068040" cy="358884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380880" y="128772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80880" y="164628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80880" y="200520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80880" y="236412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80880" y="272304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80880" y="308196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80880" y="344088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80880" y="379980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80880" y="415872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80880" y="4517640"/>
                  <a:ext cx="9068040" cy="358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80880" y="1287720"/>
                  <a:ext cx="9068040" cy="35888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63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1 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2400" y="990720"/>
              <a:ext cx="27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erformance dim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47080" y="10526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516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80880" y="1355760"/>
              <a:ext cx="9068040" cy="5105160"/>
              <a:chOff x="380880" y="1355760"/>
              <a:chExt cx="9068040" cy="5105160"/>
            </a:xfrm>
          </p:grpSpPr>
          <p:sp>
            <p:nvSpPr>
              <p:cNvPr id="71" name=""/>
              <p:cNvSpPr/>
              <p:nvPr/>
            </p:nvSpPr>
            <p:spPr>
              <a:xfrm>
                <a:off x="380880" y="13557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880" y="18662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80880" y="237672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880" y="28872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0880" y="33976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39081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44190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0880" y="49294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80" y="54399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80" y="59504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80880" y="1355760"/>
                <a:ext cx="9068040" cy="510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83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1 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0600" y="99072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rket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47080" y="10526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7516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1355760"/>
              <a:ext cx="906804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880" y="1866960"/>
              <a:ext cx="9068040" cy="50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2376360"/>
              <a:ext cx="906804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2887560"/>
              <a:ext cx="9068040" cy="50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880" y="3397320"/>
              <a:ext cx="906804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3908520"/>
              <a:ext cx="906804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4419720"/>
              <a:ext cx="9068040" cy="50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4929120"/>
              <a:ext cx="906804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5440320"/>
              <a:ext cx="9068040" cy="50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5950080"/>
              <a:ext cx="906804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1355760"/>
              <a:ext cx="9068040" cy="510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102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1 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1320" y="99072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siness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7080" y="10526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516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80880" y="1355760"/>
              <a:ext cx="9068040" cy="5105160"/>
              <a:chOff x="380880" y="1355760"/>
              <a:chExt cx="9068040" cy="5105160"/>
            </a:xfrm>
          </p:grpSpPr>
          <p:sp>
            <p:nvSpPr>
              <p:cNvPr id="110" name=""/>
              <p:cNvSpPr/>
              <p:nvPr/>
            </p:nvSpPr>
            <p:spPr>
              <a:xfrm>
                <a:off x="380880" y="13557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0880" y="18662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80" y="237672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0880" y="28872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0880" y="33976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0880" y="39081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0880" y="44190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49294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0880" y="54399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59504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0880" y="1355760"/>
                <a:ext cx="9068040" cy="510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880" y="228600"/>
            <a:ext cx="9068040" cy="6407280"/>
            <a:chOff x="380880" y="228600"/>
            <a:chExt cx="9068040" cy="6407280"/>
          </a:xfrm>
        </p:grpSpPr>
        <p:sp>
          <p:nvSpPr>
            <p:cNvPr id="122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1 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1320" y="89064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ouped market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6480" y="9525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Prio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120" y="952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80880" y="1257480"/>
              <a:ext cx="9068040" cy="2890800"/>
              <a:chOff x="380880" y="1257480"/>
              <a:chExt cx="9068040" cy="289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380880" y="125748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880" y="154656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880" y="183564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212472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0880" y="241380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880" y="270288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80" y="299196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0880" y="328104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80" y="357012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3859200"/>
                <a:ext cx="9068040" cy="28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1257480"/>
                <a:ext cx="9068040" cy="2890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194080" y="949320"/>
              <a:ext cx="22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 / constituen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62120" y="993600"/>
              <a:ext cx="4468680" cy="5624280"/>
              <a:chOff x="762120" y="993600"/>
              <a:chExt cx="4468680" cy="5624280"/>
            </a:xfrm>
          </p:grpSpPr>
          <p:sp>
            <p:nvSpPr>
              <p:cNvPr id="141" name=""/>
              <p:cNvSpPr/>
              <p:nvPr/>
            </p:nvSpPr>
            <p:spPr>
              <a:xfrm>
                <a:off x="4175280" y="999360"/>
                <a:ext cx="0" cy="561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2120" y="999360"/>
                <a:ext cx="0" cy="561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30800" y="993600"/>
                <a:ext cx="0" cy="561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80880" y="4611600"/>
              <a:ext cx="9068040" cy="28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900680"/>
              <a:ext cx="906804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189400"/>
              <a:ext cx="9068040" cy="28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5478480"/>
              <a:ext cx="9068040" cy="28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767560"/>
              <a:ext cx="9068040" cy="29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880" y="6058080"/>
              <a:ext cx="9068040" cy="2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880" y="6346800"/>
              <a:ext cx="9068040" cy="28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880" y="4611600"/>
              <a:ext cx="9068040" cy="2021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9160" y="4264200"/>
              <a:ext cx="27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ouped business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154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1 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0960" y="9907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eti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05360" y="10526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9564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2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80880" y="1355760"/>
              <a:ext cx="9068040" cy="5105160"/>
              <a:chOff x="380880" y="1355760"/>
              <a:chExt cx="9068040" cy="5105160"/>
            </a:xfrm>
          </p:grpSpPr>
          <p:sp>
            <p:nvSpPr>
              <p:cNvPr id="162" name=""/>
              <p:cNvSpPr/>
              <p:nvPr/>
            </p:nvSpPr>
            <p:spPr>
              <a:xfrm>
                <a:off x="380880" y="13557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0880" y="18662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0880" y="237672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0880" y="28872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0880" y="33976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0880" y="39081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0880" y="44190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0880" y="49294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0880" y="54399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0880" y="59504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880" y="1355760"/>
                <a:ext cx="9068040" cy="510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851000" y="104940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Strengths and weakn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48120" y="112392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72800" y="1046160"/>
              <a:ext cx="186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Strategic im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67760" y="112068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380880" y="228600"/>
            <a:ext cx="9080280" cy="6419520"/>
            <a:chOff x="380880" y="228600"/>
            <a:chExt cx="9080280" cy="6419520"/>
          </a:xfrm>
        </p:grpSpPr>
        <p:sp>
          <p:nvSpPr>
            <p:cNvPr id="178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1 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84120" y="920880"/>
              <a:ext cx="4419360" cy="2822400"/>
              <a:chOff x="384120" y="920880"/>
              <a:chExt cx="4419360" cy="2822400"/>
            </a:xfrm>
          </p:grpSpPr>
          <p:sp>
            <p:nvSpPr>
              <p:cNvPr id="181" name=""/>
              <p:cNvSpPr/>
              <p:nvPr/>
            </p:nvSpPr>
            <p:spPr>
              <a:xfrm>
                <a:off x="844200" y="920880"/>
                <a:ext cx="153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Opportunit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1000" y="9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84120" y="1135080"/>
                <a:ext cx="4419360" cy="2608200"/>
                <a:chOff x="384120" y="1135080"/>
                <a:chExt cx="4419360" cy="2608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65000" y="1135080"/>
                  <a:ext cx="0" cy="260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4120" y="127260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4120" y="158148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84120" y="189000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84120" y="219852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84120" y="2507400"/>
                  <a:ext cx="4419360" cy="30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4120" y="281736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84120" y="312552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4120" y="343440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84120" y="1272600"/>
                  <a:ext cx="4419360" cy="24703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5041800" y="920880"/>
              <a:ext cx="4419360" cy="2822400"/>
              <a:chOff x="5041800" y="920880"/>
              <a:chExt cx="4419360" cy="2822400"/>
            </a:xfrm>
          </p:grpSpPr>
          <p:sp>
            <p:nvSpPr>
              <p:cNvPr id="195" name=""/>
              <p:cNvSpPr/>
              <p:nvPr/>
            </p:nvSpPr>
            <p:spPr>
              <a:xfrm>
                <a:off x="5500800" y="92088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hrea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98680" y="9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041800" y="1135080"/>
                <a:ext cx="4419360" cy="2608200"/>
                <a:chOff x="5041800" y="1135080"/>
                <a:chExt cx="4419360" cy="2608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422680" y="1135080"/>
                  <a:ext cx="0" cy="260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041800" y="127260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41800" y="158148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41800" y="189000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041800" y="219852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41800" y="2507400"/>
                  <a:ext cx="4419360" cy="30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41800" y="281736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041800" y="312552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041800" y="343440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041800" y="1272600"/>
                  <a:ext cx="4419360" cy="24703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84120" y="3825720"/>
              <a:ext cx="4419360" cy="2822400"/>
              <a:chOff x="384120" y="3825720"/>
              <a:chExt cx="4419360" cy="2822400"/>
            </a:xfrm>
          </p:grpSpPr>
          <p:sp>
            <p:nvSpPr>
              <p:cNvPr id="209" name=""/>
              <p:cNvSpPr/>
              <p:nvPr/>
            </p:nvSpPr>
            <p:spPr>
              <a:xfrm>
                <a:off x="843480" y="382572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treng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000" y="3887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84120" y="4039920"/>
                <a:ext cx="4419360" cy="2608200"/>
                <a:chOff x="384120" y="4039920"/>
                <a:chExt cx="4419360" cy="26082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65000" y="4039920"/>
                  <a:ext cx="0" cy="260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4120" y="417744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4120" y="448632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84120" y="479484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4120" y="510336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4120" y="5412240"/>
                  <a:ext cx="4419360" cy="30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4120" y="572220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4120" y="603036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4120" y="633924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4120" y="4177440"/>
                  <a:ext cx="4419360" cy="24703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041800" y="3825720"/>
              <a:ext cx="4419360" cy="2822400"/>
              <a:chOff x="5041800" y="3825720"/>
              <a:chExt cx="4419360" cy="2822400"/>
            </a:xfrm>
          </p:grpSpPr>
          <p:sp>
            <p:nvSpPr>
              <p:cNvPr id="223" name=""/>
              <p:cNvSpPr/>
              <p:nvPr/>
            </p:nvSpPr>
            <p:spPr>
              <a:xfrm>
                <a:off x="5501520" y="3825720"/>
                <a:ext cx="148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Weaknes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98680" y="3887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5041800" y="4039920"/>
                <a:ext cx="4419360" cy="2608200"/>
                <a:chOff x="5041800" y="4039920"/>
                <a:chExt cx="4419360" cy="2608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422680" y="4039920"/>
                  <a:ext cx="0" cy="260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041800" y="417744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41800" y="448632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041800" y="479484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041800" y="510336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041800" y="5412240"/>
                  <a:ext cx="4419360" cy="30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041800" y="5722200"/>
                  <a:ext cx="4419360" cy="308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041800" y="603036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041800" y="6339240"/>
                  <a:ext cx="4419360" cy="30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41800" y="4177440"/>
                  <a:ext cx="4419360" cy="24703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237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1 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2040" y="99072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ps in 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08440" y="1052640"/>
              <a:ext cx="45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Sources of information and mechanisms for filling g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80880" y="1127160"/>
              <a:ext cx="9068040" cy="5334120"/>
              <a:chOff x="380880" y="1127160"/>
              <a:chExt cx="9068040" cy="5334120"/>
            </a:xfrm>
          </p:grpSpPr>
          <p:sp>
            <p:nvSpPr>
              <p:cNvPr id="243" name=""/>
              <p:cNvSpPr/>
              <p:nvPr/>
            </p:nvSpPr>
            <p:spPr>
              <a:xfrm>
                <a:off x="475308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2120" y="1127160"/>
                <a:ext cx="0" cy="533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380880" y="1355760"/>
                <a:ext cx="9068040" cy="5105160"/>
                <a:chOff x="380880" y="1355760"/>
                <a:chExt cx="9068040" cy="51051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80880" y="13557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0880" y="18662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0880" y="237672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80880" y="28872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80880" y="33976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80880" y="39081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80880" y="441900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80880" y="492948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80880" y="543996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0880" y="5950440"/>
                  <a:ext cx="9068040" cy="510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80880" y="1355760"/>
                  <a:ext cx="9068040" cy="5105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380880" y="228600"/>
            <a:ext cx="9068040" cy="6232680"/>
            <a:chOff x="380880" y="228600"/>
            <a:chExt cx="9068040" cy="6232680"/>
          </a:xfrm>
        </p:grpSpPr>
        <p:sp>
          <p:nvSpPr>
            <p:cNvPr id="258" name=""/>
            <p:cNvSpPr/>
            <p:nvPr/>
          </p:nvSpPr>
          <p:spPr>
            <a:xfrm>
              <a:off x="380880" y="228600"/>
              <a:ext cx="9068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-Plan: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kshop 2 -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91200" y="271440"/>
              <a:ext cx="51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itle………………………..……...………..   Date…...…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0960" y="990720"/>
              <a:ext cx="27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 feature concep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58040" y="10526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8120" y="10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832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120" y="1127160"/>
              <a:ext cx="0" cy="5334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80880" y="1355760"/>
              <a:ext cx="9068040" cy="5105160"/>
              <a:chOff x="380880" y="1355760"/>
              <a:chExt cx="9068040" cy="5105160"/>
            </a:xfrm>
          </p:grpSpPr>
          <p:sp>
            <p:nvSpPr>
              <p:cNvPr id="266" name=""/>
              <p:cNvSpPr/>
              <p:nvPr/>
            </p:nvSpPr>
            <p:spPr>
              <a:xfrm>
                <a:off x="380880" y="13557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0880" y="18662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880" y="237672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0880" y="28872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880" y="33976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0880" y="39081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0880" y="441900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880" y="492948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0880" y="543996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0880" y="5950440"/>
                <a:ext cx="9068040" cy="510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0880" y="1355760"/>
                <a:ext cx="9068040" cy="510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0:02:13Z</dcterms:created>
  <dc:creator>rp108</dc:creator>
  <dc:description/>
  <dc:language>en-US</dc:language>
  <cp:lastModifiedBy>rp108</cp:lastModifiedBy>
  <cp:lastPrinted>2001-06-06T11:16:33Z</cp:lastPrinted>
  <dcterms:modified xsi:type="dcterms:W3CDTF">2001-10-23T08:40:40Z</dcterms:modified>
  <cp:revision>15</cp:revision>
  <dc:subject/>
  <dc:title>No Slide Title</dc:title>
</cp:coreProperties>
</file>