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3800" y="864720"/>
            <a:ext cx="5025960" cy="348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84160" y="865080"/>
            <a:ext cx="5025960" cy="34815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237960"/>
            <a:ext cx="9600840" cy="6245280"/>
            <a:chOff x="152280" y="237960"/>
            <a:chExt cx="9600840" cy="6245280"/>
          </a:xfrm>
        </p:grpSpPr>
        <p:sp>
          <p:nvSpPr>
            <p:cNvPr id="1" name=""/>
            <p:cNvSpPr/>
            <p:nvPr/>
          </p:nvSpPr>
          <p:spPr>
            <a:xfrm>
              <a:off x="152280" y="237960"/>
              <a:ext cx="960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6483240"/>
              <a:ext cx="960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74840" y="66600"/>
            <a:ext cx="1504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49360" y="100080"/>
            <a:ext cx="133812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-Pla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" name=""/>
          <p:cNvSpPr/>
          <p:nvPr/>
        </p:nvSpPr>
        <p:spPr>
          <a:xfrm>
            <a:off x="7983360" y="649620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292800"/>
            <a:ext cx="222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hop 2: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870120" y="1592280"/>
            <a:ext cx="8175600" cy="3449520"/>
            <a:chOff x="870120" y="1592280"/>
            <a:chExt cx="8175600" cy="3449520"/>
          </a:xfrm>
        </p:grpSpPr>
        <p:sp>
          <p:nvSpPr>
            <p:cNvPr id="47" name=""/>
            <p:cNvSpPr txBox="1"/>
            <p:nvPr/>
          </p:nvSpPr>
          <p:spPr>
            <a:xfrm>
              <a:off x="2158920" y="1627200"/>
              <a:ext cx="5187960" cy="7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-Pla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0120" y="1592280"/>
              <a:ext cx="8175600" cy="3300480"/>
            </a:xfrm>
            <a:custGeom>
              <a:avLst/>
              <a:gdLst>
                <a:gd name="textAreaLeft" fmla="*/ 1277280 w 8175600"/>
                <a:gd name="textAreaRight" fmla="*/ 7495560 w 8175600"/>
                <a:gd name="textAreaTop" fmla="*/ 896400 h 3300480"/>
                <a:gd name="textAreaBottom" fmla="*/ 2404080 h 33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868"/>
                  </a:moveTo>
                  <a:lnTo>
                    <a:pt x="17664" y="5868"/>
                  </a:lnTo>
                  <a:lnTo>
                    <a:pt x="17664" y="0"/>
                  </a:lnTo>
                  <a:lnTo>
                    <a:pt x="21600" y="10800"/>
                  </a:lnTo>
                  <a:lnTo>
                    <a:pt x="17664" y="21600"/>
                  </a:lnTo>
                  <a:lnTo>
                    <a:pt x="17664" y="15732"/>
                  </a:lnTo>
                  <a:lnTo>
                    <a:pt x="3375" y="15732"/>
                  </a:lnTo>
                  <a:close/>
                </a:path>
                <a:path w="21600" h="21600">
                  <a:moveTo>
                    <a:pt x="0" y="5868"/>
                  </a:moveTo>
                  <a:lnTo>
                    <a:pt x="675" y="5868"/>
                  </a:lnTo>
                  <a:lnTo>
                    <a:pt x="675" y="15732"/>
                  </a:lnTo>
                  <a:lnTo>
                    <a:pt x="0" y="15732"/>
                  </a:lnTo>
                  <a:close/>
                </a:path>
                <a:path w="21600" h="21600">
                  <a:moveTo>
                    <a:pt x="1350" y="5868"/>
                  </a:moveTo>
                  <a:lnTo>
                    <a:pt x="2700" y="5868"/>
                  </a:lnTo>
                  <a:lnTo>
                    <a:pt x="2700" y="15732"/>
                  </a:lnTo>
                  <a:lnTo>
                    <a:pt x="1350" y="157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2436840" y="2576520"/>
              <a:ext cx="1892160" cy="12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782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ast-Start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48240" y="2550960"/>
              <a:ext cx="3833640" cy="16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 Narrow"/>
                </a:rPr>
                <a:t>Roadmappi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920" y="3965760"/>
              <a:ext cx="50371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 Narrow"/>
                </a:rPr>
                <a:t>- A practical guide for supporting technology and product planning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9088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03800" y="2301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1636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29280" y="2301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4184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54760" y="2301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6732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0240" y="2301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9280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9088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03800" y="2682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1636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29280" y="2682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4184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54760" y="2682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6732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9280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9088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03800" y="3063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29280" y="3063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4184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54760" y="3063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6732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80240" y="3063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9280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9088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03800" y="3444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636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29280" y="3444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4184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54760" y="3444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6732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80240" y="3444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9280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088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03800" y="3825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1636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9280" y="3825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4184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54760" y="3825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6732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0240" y="3825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9280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9088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03800" y="4206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29280" y="4206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4184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54760" y="4206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6732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80240" y="4206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9280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9088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03800" y="4587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1636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29280" y="4587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4184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54760" y="4587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6732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80240" y="4587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9280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9088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03800" y="4968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29280" y="4968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184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54760" y="4968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6732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0240" y="4968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9280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9088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03800" y="5349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1636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29280" y="5349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4184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54760" y="5349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6732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80240" y="5349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9280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9088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03800" y="5730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1636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29280" y="5730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4184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54760" y="5730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6732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80240" y="5730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9280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1520" y="230184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1520" y="2682720"/>
            <a:ext cx="32493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2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1520" y="306396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3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1520" y="344484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4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1520" y="3825720"/>
            <a:ext cx="32493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5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1520" y="420696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6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1520" y="458784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7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1520" y="4968720"/>
            <a:ext cx="32493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8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1520" y="534996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1520" y="5730840"/>
            <a:ext cx="32493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1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9088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03800" y="849240"/>
            <a:ext cx="4125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1636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29280" y="849240"/>
            <a:ext cx="4125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4184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54760" y="849240"/>
            <a:ext cx="4125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6732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0240" y="849240"/>
            <a:ext cx="4125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9280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1520" y="849240"/>
            <a:ext cx="32493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27120" y="846000"/>
            <a:ext cx="3263760" cy="145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75160" y="1438200"/>
            <a:ext cx="8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35360" y="977760"/>
            <a:ext cx="82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rket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3942000" y="20102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4356360" y="201996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2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4770720" y="20102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3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5181840" y="20246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4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5594400" y="20246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5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6007320" y="20246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6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6419880" y="20246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7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6832800" y="20246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8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0572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0572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0572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572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0572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0572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0572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0572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0572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0572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0572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7234200" y="20142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7646760" y="20142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B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15400" y="2301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427960" y="2301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27960" y="2682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15400" y="3063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27960" y="3063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015400" y="3444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427960" y="3444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15400" y="3825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427960" y="3825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15400" y="4206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427960" y="4206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015400" y="4587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27960" y="4587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15400" y="4968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27960" y="4968720"/>
            <a:ext cx="41292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15400" y="5349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27960" y="534996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15400" y="5730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27960" y="5730840"/>
            <a:ext cx="412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015400" y="849240"/>
            <a:ext cx="4125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427960" y="849240"/>
            <a:ext cx="41292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8059680" y="20142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840880" y="2301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840880" y="2682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840880" y="3063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840880" y="3444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840880" y="3825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840880" y="4206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840880" y="4587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840880" y="4968720"/>
            <a:ext cx="412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840880" y="534996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840880" y="5730840"/>
            <a:ext cx="412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840880" y="849240"/>
            <a:ext cx="412560" cy="145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8470800" y="20142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8886240" y="20167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 Narrow"/>
              </a:rPr>
              <a:t>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5488560" y="-886320"/>
            <a:ext cx="109800" cy="3263760"/>
          </a:xfrm>
          <a:custGeom>
            <a:avLst/>
            <a:gdLst>
              <a:gd name="textAreaLeft" fmla="*/ 70200 w 109800"/>
              <a:gd name="textAreaRight" fmla="*/ 110160 w 109800"/>
              <a:gd name="textAreaTop" fmla="*/ 84960 h 3263760"/>
              <a:gd name="textAreaBottom" fmla="*/ 3178800 h 32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5400000">
            <a:off x="8170560" y="-277560"/>
            <a:ext cx="109800" cy="2046240"/>
          </a:xfrm>
          <a:custGeom>
            <a:avLst/>
            <a:gdLst>
              <a:gd name="textAreaLeft" fmla="*/ 70200 w 109800"/>
              <a:gd name="textAreaRight" fmla="*/ 110160 w 109800"/>
              <a:gd name="textAreaTop" fmla="*/ 53280 h 2046240"/>
              <a:gd name="textAreaBottom" fmla="*/ 1992960 h 204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5400" y="41112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4920" y="4111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[Company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047400" y="849240"/>
            <a:ext cx="3490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Produ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38160" y="1763640"/>
            <a:ext cx="5799240" cy="183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88000" y="1887480"/>
            <a:ext cx="4800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alternative ‘product strategies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ght satisfy the range of market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siness drivers in the 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tforms?  Ev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94120" y="3952800"/>
            <a:ext cx="685260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e.g. low cost vs. high cost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Remember that drivers may change with time,and may depend on market 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A product platform is the collection of assets that are shared by a set of produ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-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-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-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- people &amp;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071160" y="309600"/>
            <a:ext cx="3790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Product Plat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04760" y="988920"/>
            <a:ext cx="8033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 product platform is a set of subsystems and interfaces that form a common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rom which a stream of derivative products can be efficiently developed and produc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25840" y="178272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Sabon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83640" y="177948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Sabon"/>
              </a:rPr>
              <a:t>Next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61000" y="177624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Sabon"/>
              </a:rPr>
              <a:t>Follow-on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16760" y="5657760"/>
            <a:ext cx="81136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…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key to efficiently designing and producing a product family is to develop comm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duct &amp; process technology platforms for the core technologies of the product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7000" y="247176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abo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5560" y="33526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abo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7720" y="42339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abo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6920" y="2690640"/>
            <a:ext cx="137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6920" y="3576600"/>
            <a:ext cx="137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6920" y="4462560"/>
            <a:ext cx="137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0320" y="2690640"/>
            <a:ext cx="1457280" cy="51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48240" y="3206880"/>
            <a:ext cx="188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76480" y="2690640"/>
            <a:ext cx="717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43360" y="2952720"/>
            <a:ext cx="630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84480" y="3576600"/>
            <a:ext cx="1458720" cy="51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32040" y="4094280"/>
            <a:ext cx="188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24120" y="3767040"/>
            <a:ext cx="279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35720" y="3486240"/>
            <a:ext cx="281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16640" y="3209760"/>
            <a:ext cx="922320" cy="27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516640" y="3490560"/>
            <a:ext cx="922320" cy="27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91080" y="4091040"/>
            <a:ext cx="922320" cy="27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99360" y="4363920"/>
            <a:ext cx="285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3840" y="4462560"/>
            <a:ext cx="1459080" cy="51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43200" y="4979880"/>
            <a:ext cx="560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14840" y="3768840"/>
            <a:ext cx="922320" cy="27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29240" y="4044960"/>
            <a:ext cx="2824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87840" y="4987800"/>
            <a:ext cx="1292400" cy="45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29360" y="5218200"/>
            <a:ext cx="3119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77000" y="5442120"/>
            <a:ext cx="2470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235260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Core (Platfo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8880" y="32497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Core (Platfo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5640" y="4146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Core (Platfo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62200" y="23637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62200" y="34466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62200" y="4662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27280" y="266076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Leverage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7280" y="292428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Leverage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25120" y="378792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Cost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11840" y="23716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76920" y="266076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Leverage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18680" y="31957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11840" y="37558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74760" y="406872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Cost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11840" y="4689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68640" y="493092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Enhan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52080" y="516888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bon"/>
              </a:rPr>
              <a:t>Customised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4213800" y="1522440"/>
            <a:ext cx="1224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G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25640" y="2890800"/>
            <a:ext cx="5904000" cy="77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69440" y="3065400"/>
            <a:ext cx="51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 key ‘gaps’ in current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65600" y="4102200"/>
            <a:ext cx="251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e.g. custom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03840" y="4513320"/>
            <a:ext cx="54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sources of information and mechanisms for filling g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37600" y="1393920"/>
            <a:ext cx="747072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Fast-Start Technology Roadmapping</a:t>
            </a:r>
            <a:br>
              <a:rPr sz="4000"/>
            </a:br>
            <a:br>
              <a:rPr sz="1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 Narrow"/>
              </a:rPr>
              <a:t>[Company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Workshop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(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71960" y="2684520"/>
            <a:ext cx="5236200" cy="24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duct feature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mpact of product feature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duct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9360" y="1174680"/>
            <a:ext cx="418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orkshop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50240" y="595440"/>
            <a:ext cx="66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Technology Roadmap (TRM) - Sche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27320" y="1809720"/>
            <a:ext cx="5986440" cy="405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45520" y="1727280"/>
            <a:ext cx="931680" cy="620640"/>
          </a:xfrm>
          <a:prstGeom prst="rightArrow">
            <a:avLst>
              <a:gd name="adj1" fmla="val 68750"/>
              <a:gd name="adj2" fmla="val 388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16440" y="183204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6000" y="2041560"/>
            <a:ext cx="14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siness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1680" y="341136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duct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9400" y="493884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26960" y="3159000"/>
            <a:ext cx="5986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26960" y="4511520"/>
            <a:ext cx="5986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06840" y="4665600"/>
            <a:ext cx="1682640" cy="238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7720" y="3522600"/>
            <a:ext cx="1677960" cy="238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87920" y="5068800"/>
            <a:ext cx="167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65760" y="5472000"/>
            <a:ext cx="1676160" cy="239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05480" y="3892680"/>
            <a:ext cx="1676160" cy="239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34000" y="2324160"/>
            <a:ext cx="317520" cy="28872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7360" y="2327400"/>
            <a:ext cx="312840" cy="2854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53240" y="5062680"/>
            <a:ext cx="1672920" cy="237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0600" y="3522600"/>
            <a:ext cx="1673280" cy="241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170240" y="376344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337000" y="4119480"/>
            <a:ext cx="0" cy="95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226280" y="376380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38560" y="364500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73800" y="51865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89480" y="4784760"/>
            <a:ext cx="138240" cy="285840"/>
          </a:xfrm>
          <a:custGeom>
            <a:avLst/>
            <a:gdLst/>
            <a:ahLst/>
            <a:rect l="l" t="t" r="r" b="b"/>
            <a:pathLst>
              <a:path w="52" h="113">
                <a:moveTo>
                  <a:pt x="0" y="0"/>
                </a:moveTo>
                <a:lnTo>
                  <a:pt x="52" y="0"/>
                </a:lnTo>
                <a:lnTo>
                  <a:pt x="52" y="1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68920" y="3763800"/>
            <a:ext cx="0" cy="1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10200" y="53038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92880" y="53038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02600" y="261288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98880" y="2612880"/>
            <a:ext cx="0" cy="90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012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09920" y="3557520"/>
            <a:ext cx="279360" cy="59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6236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70360" y="3557520"/>
            <a:ext cx="281160" cy="59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2280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34040" y="3557520"/>
            <a:ext cx="277920" cy="59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85040" y="2665440"/>
            <a:ext cx="1814400" cy="23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8640" y="271296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6920" y="270972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22240" y="271296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92760" y="271296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Worksho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h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760" y="3452760"/>
            <a:ext cx="17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rket /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iorit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89360" y="3452760"/>
            <a:ext cx="166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duct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u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act ra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duct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69960" y="3452760"/>
            <a:ext cx="15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u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act ra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50920" y="3452760"/>
            <a:ext cx="143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in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source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ture mar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092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0848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8476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47000" y="5129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[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9080" y="701640"/>
            <a:ext cx="811224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T-Plan: Fast-Start Technology Road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952720" y="2044800"/>
            <a:ext cx="5138640" cy="347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61200" y="1554120"/>
            <a:ext cx="800280" cy="420840"/>
          </a:xfrm>
          <a:prstGeom prst="rightArrow">
            <a:avLst>
              <a:gd name="adj1" fmla="val 68750"/>
              <a:gd name="adj2" fmla="val 4924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97560" y="15559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00400" y="2314440"/>
            <a:ext cx="14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77880" y="3568680"/>
            <a:ext cx="128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37680" y="47242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952720" y="3203640"/>
            <a:ext cx="5138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952720" y="4362480"/>
            <a:ext cx="5138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249960" y="2519280"/>
            <a:ext cx="1483560" cy="1369440"/>
            <a:chOff x="6249960" y="2519280"/>
            <a:chExt cx="1483560" cy="1369440"/>
          </a:xfrm>
        </p:grpSpPr>
        <p:sp>
          <p:nvSpPr>
            <p:cNvPr id="113" name=""/>
            <p:cNvSpPr/>
            <p:nvPr/>
          </p:nvSpPr>
          <p:spPr>
            <a:xfrm>
              <a:off x="6249960" y="251928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46240" y="251928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0" y="251928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39880" y="251928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36520" y="251928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9960" y="27936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46240" y="27936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43600" y="27936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39880" y="27936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36520" y="27936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49960" y="30672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46240" y="30672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43600" y="30672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39880" y="306720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36520" y="306720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49960" y="334080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46240" y="334080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0" y="334080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39880" y="334080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6520" y="334080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9960" y="361512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46240" y="361512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43600" y="361512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39880" y="361512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36520" y="361512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rot="16200000">
            <a:off x="5262120" y="3045600"/>
            <a:ext cx="1503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t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33080" y="213372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usiness / Market 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530520" y="3678120"/>
            <a:ext cx="1483560" cy="1369440"/>
            <a:chOff x="3530520" y="3678120"/>
            <a:chExt cx="1483560" cy="1369440"/>
          </a:xfrm>
        </p:grpSpPr>
        <p:sp>
          <p:nvSpPr>
            <p:cNvPr id="141" name=""/>
            <p:cNvSpPr/>
            <p:nvPr/>
          </p:nvSpPr>
          <p:spPr>
            <a:xfrm>
              <a:off x="3530520" y="367812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26800" y="367812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24160" y="367812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20440" y="367812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17080" y="367812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30520" y="39524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6800" y="39524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24160" y="39524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0440" y="39524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17080" y="39524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30520" y="42260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26800" y="42260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24160" y="42260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20440" y="422604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17080" y="422604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30520" y="449964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26800" y="449964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4160" y="449964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20440" y="4499640"/>
              <a:ext cx="29628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17080" y="4499640"/>
              <a:ext cx="297000" cy="274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30520" y="477396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26800" y="477396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24160" y="477396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0440" y="4773960"/>
              <a:ext cx="29628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7080" y="4773960"/>
              <a:ext cx="297000" cy="273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 rot="16200000">
            <a:off x="4692960" y="2222280"/>
            <a:ext cx="257040" cy="2127240"/>
          </a:xfrm>
          <a:custGeom>
            <a:avLst/>
            <a:gdLst>
              <a:gd name="textAreaLeft" fmla="*/ 360 w 257040"/>
              <a:gd name="textAreaRight" fmla="*/ 257760 w 257040"/>
              <a:gd name="textAreaTop" fmla="*/ 0 h 2127240"/>
              <a:gd name="textAreaBottom" fmla="*/ 2127600 h 2127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35200" y="3355920"/>
            <a:ext cx="150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t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2273760" y="4238280"/>
            <a:ext cx="190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chnology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79680" y="1125360"/>
            <a:ext cx="242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81600" y="1413000"/>
            <a:ext cx="798480" cy="11588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0"/>
                </a:moveTo>
                <a:lnTo>
                  <a:pt x="96" y="0"/>
                </a:lnTo>
                <a:lnTo>
                  <a:pt x="528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73600" y="5100480"/>
            <a:ext cx="569880" cy="10540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864"/>
                </a:moveTo>
                <a:lnTo>
                  <a:pt x="144" y="864"/>
                </a:lnTo>
                <a:lnTo>
                  <a:pt x="4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040280" y="3968640"/>
            <a:ext cx="2852640" cy="219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71720" y="5848200"/>
            <a:ext cx="194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42920" y="411120"/>
            <a:ext cx="62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Roadmap Input Data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47840" y="2584440"/>
            <a:ext cx="6796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4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.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80920" y="638280"/>
            <a:ext cx="80172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Fast-start technology roadmapping at [Compan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32240" y="550800"/>
            <a:ext cx="5203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Product feature concep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0560" y="3332160"/>
            <a:ext cx="7094520" cy="251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9560" y="1486080"/>
            <a:ext cx="899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se are key product / service features or concepts which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potential of addressing the market and business dri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9560" y="2482920"/>
            <a:ext cx="86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Examples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modular; easy to install; lowest cost of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2560" y="3478320"/>
            <a:ext cx="649872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rainstorm product / service feature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roup (10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ate risk / complexity / effort for product feature concept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dentify areas of synergy with current products &amp; technology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p links to performance dimension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82560" y="3122640"/>
            <a:ext cx="1837080" cy="30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si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Think about fu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product broch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Reuse of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-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-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-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-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40280" y="59022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* 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42800" y="417600"/>
            <a:ext cx="54345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Impact of product fea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772080" y="1731960"/>
            <a:ext cx="1849320" cy="1428480"/>
            <a:chOff x="3772080" y="1731960"/>
            <a:chExt cx="1849320" cy="1428480"/>
          </a:xfrm>
        </p:grpSpPr>
        <p:sp>
          <p:nvSpPr>
            <p:cNvPr id="186" name=""/>
            <p:cNvSpPr/>
            <p:nvPr/>
          </p:nvSpPr>
          <p:spPr>
            <a:xfrm>
              <a:off x="3772080" y="173196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41800" y="173196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11520" y="173196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81600" y="173196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1680" y="173196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72080" y="201780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41800" y="201780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11520" y="201780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81600" y="201780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1680" y="201780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72080" y="230328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41800" y="230328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1520" y="230328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81600" y="230328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1680" y="230328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72080" y="258912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41800" y="258912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11520" y="258912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81600" y="258912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51680" y="2589120"/>
              <a:ext cx="369720" cy="285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72080" y="287496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41800" y="287496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11520" y="287496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81600" y="287496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51680" y="2874960"/>
              <a:ext cx="369720" cy="285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9840" y="1147680"/>
            <a:ext cx="196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/ 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43560" y="1809720"/>
            <a:ext cx="500040" cy="138240"/>
          </a:xfrm>
          <a:prstGeom prst="leftArrow">
            <a:avLst>
              <a:gd name="adj1" fmla="val 50000"/>
              <a:gd name="adj2" fmla="val 90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85360" y="168264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nk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2545920" y="214524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3360" y="3591000"/>
            <a:ext cx="7412040" cy="244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6640" y="3664080"/>
            <a:ext cx="691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or each product feature concept, rank ‘impact’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ach market / business driver in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     for low,      for medium, and        for high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dentify key product features that have high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cross multiple drivers (synergy)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27560" y="3471840"/>
            <a:ext cx="1761120" cy="27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Impact is 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as the ‘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for satisfy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driver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Use ‘X’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impact is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‘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Cross-impact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grids can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to expl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dependencie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43160" y="4667400"/>
            <a:ext cx="85680" cy="212400"/>
          </a:xfrm>
          <a:custGeom>
            <a:avLst/>
            <a:gdLst/>
            <a:ahLst/>
            <a:rect l="l" t="t" r="r" b="b"/>
            <a:pathLst>
              <a:path w="50" h="134">
                <a:moveTo>
                  <a:pt x="0" y="87"/>
                </a:moveTo>
                <a:lnTo>
                  <a:pt x="12" y="134"/>
                </a:lnTo>
                <a:lnTo>
                  <a:pt x="5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604960" y="4667400"/>
            <a:ext cx="195120" cy="212400"/>
            <a:chOff x="2604960" y="4667400"/>
            <a:chExt cx="195120" cy="212400"/>
          </a:xfrm>
        </p:grpSpPr>
        <p:sp>
          <p:nvSpPr>
            <p:cNvPr id="220" name=""/>
            <p:cNvSpPr/>
            <p:nvPr/>
          </p:nvSpPr>
          <p:spPr>
            <a:xfrm>
              <a:off x="2604960" y="4667400"/>
              <a:ext cx="86040" cy="21240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87"/>
                  </a:moveTo>
                  <a:lnTo>
                    <a:pt x="12" y="134"/>
                  </a:lnTo>
                  <a:lnTo>
                    <a:pt x="5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4040" y="4667400"/>
              <a:ext cx="86040" cy="21240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87"/>
                  </a:moveTo>
                  <a:lnTo>
                    <a:pt x="12" y="134"/>
                  </a:lnTo>
                  <a:lnTo>
                    <a:pt x="5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911840" y="4667400"/>
            <a:ext cx="304200" cy="212400"/>
            <a:chOff x="4911840" y="4667400"/>
            <a:chExt cx="304200" cy="212400"/>
          </a:xfrm>
        </p:grpSpPr>
        <p:sp>
          <p:nvSpPr>
            <p:cNvPr id="223" name=""/>
            <p:cNvSpPr/>
            <p:nvPr/>
          </p:nvSpPr>
          <p:spPr>
            <a:xfrm>
              <a:off x="4911840" y="4667400"/>
              <a:ext cx="85680" cy="21240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87"/>
                  </a:moveTo>
                  <a:lnTo>
                    <a:pt x="12" y="134"/>
                  </a:lnTo>
                  <a:lnTo>
                    <a:pt x="5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20200" y="4667400"/>
              <a:ext cx="85680" cy="21240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87"/>
                  </a:moveTo>
                  <a:lnTo>
                    <a:pt x="12" y="134"/>
                  </a:lnTo>
                  <a:lnTo>
                    <a:pt x="5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30360" y="4667400"/>
              <a:ext cx="85680" cy="21240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87"/>
                  </a:moveTo>
                  <a:lnTo>
                    <a:pt x="12" y="134"/>
                  </a:lnTo>
                  <a:lnTo>
                    <a:pt x="5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918120" y="60688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* 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2:27:48Z</dcterms:created>
  <dc:creator>Rob Phaal</dc:creator>
  <dc:description/>
  <dc:language>en-US</dc:language>
  <cp:lastModifiedBy>rp108</cp:lastModifiedBy>
  <cp:lastPrinted>1999-11-01T11:42:24Z</cp:lastPrinted>
  <dcterms:modified xsi:type="dcterms:W3CDTF">2001-10-23T13:05:29Z</dcterms:modified>
  <cp:revision>81</cp:revision>
  <dc:subject/>
  <dc:title>No Slide Title</dc:title>
</cp:coreProperties>
</file>