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883800" y="864720"/>
            <a:ext cx="5025960" cy="348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884160" y="865080"/>
            <a:ext cx="5025960" cy="34815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237960"/>
            <a:ext cx="9600840" cy="6245280"/>
            <a:chOff x="152280" y="237960"/>
            <a:chExt cx="9600840" cy="6245280"/>
          </a:xfrm>
        </p:grpSpPr>
        <p:sp>
          <p:nvSpPr>
            <p:cNvPr id="1" name=""/>
            <p:cNvSpPr/>
            <p:nvPr/>
          </p:nvSpPr>
          <p:spPr>
            <a:xfrm>
              <a:off x="152280" y="237960"/>
              <a:ext cx="9600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6483240"/>
              <a:ext cx="9600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74840" y="66600"/>
            <a:ext cx="1504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549360" y="100080"/>
            <a:ext cx="133812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-Pla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" name=""/>
          <p:cNvSpPr/>
          <p:nvPr/>
        </p:nvSpPr>
        <p:spPr>
          <a:xfrm>
            <a:off x="7983360" y="649620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iversity of Cam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3400" y="6292800"/>
            <a:ext cx="2599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hop 3: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870120" y="1592280"/>
            <a:ext cx="8175600" cy="3449520"/>
            <a:chOff x="870120" y="1592280"/>
            <a:chExt cx="8175600" cy="3449520"/>
          </a:xfrm>
        </p:grpSpPr>
        <p:sp>
          <p:nvSpPr>
            <p:cNvPr id="47" name=""/>
            <p:cNvSpPr txBox="1"/>
            <p:nvPr/>
          </p:nvSpPr>
          <p:spPr>
            <a:xfrm>
              <a:off x="2158920" y="1627200"/>
              <a:ext cx="5187960" cy="7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-Pla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0120" y="1592280"/>
              <a:ext cx="8175600" cy="3300480"/>
            </a:xfrm>
            <a:custGeom>
              <a:avLst/>
              <a:gdLst>
                <a:gd name="textAreaLeft" fmla="*/ 1277280 w 8175600"/>
                <a:gd name="textAreaRight" fmla="*/ 7495560 w 8175600"/>
                <a:gd name="textAreaTop" fmla="*/ 896400 h 3300480"/>
                <a:gd name="textAreaBottom" fmla="*/ 2404080 h 330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868"/>
                  </a:moveTo>
                  <a:lnTo>
                    <a:pt x="17664" y="5868"/>
                  </a:lnTo>
                  <a:lnTo>
                    <a:pt x="17664" y="0"/>
                  </a:lnTo>
                  <a:lnTo>
                    <a:pt x="21600" y="10800"/>
                  </a:lnTo>
                  <a:lnTo>
                    <a:pt x="17664" y="21600"/>
                  </a:lnTo>
                  <a:lnTo>
                    <a:pt x="17664" y="15732"/>
                  </a:lnTo>
                  <a:lnTo>
                    <a:pt x="3375" y="15732"/>
                  </a:lnTo>
                  <a:close/>
                </a:path>
                <a:path w="21600" h="21600">
                  <a:moveTo>
                    <a:pt x="0" y="5868"/>
                  </a:moveTo>
                  <a:lnTo>
                    <a:pt x="675" y="5868"/>
                  </a:lnTo>
                  <a:lnTo>
                    <a:pt x="675" y="15732"/>
                  </a:lnTo>
                  <a:lnTo>
                    <a:pt x="0" y="15732"/>
                  </a:lnTo>
                  <a:close/>
                </a:path>
                <a:path w="21600" h="21600">
                  <a:moveTo>
                    <a:pt x="1350" y="5868"/>
                  </a:moveTo>
                  <a:lnTo>
                    <a:pt x="2700" y="5868"/>
                  </a:lnTo>
                  <a:lnTo>
                    <a:pt x="2700" y="15732"/>
                  </a:lnTo>
                  <a:lnTo>
                    <a:pt x="1350" y="157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2436840" y="2576520"/>
              <a:ext cx="1892160" cy="12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782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Fast-Start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48240" y="2550960"/>
              <a:ext cx="3833640" cy="16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 Narrow"/>
                </a:rPr>
                <a:t>Technolog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 Narrow"/>
                </a:rPr>
                <a:t>Roadmappi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920" y="3965760"/>
              <a:ext cx="50371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 Narrow"/>
                </a:rPr>
                <a:t>- A practical guide for supporting technology and product planning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837800" y="415800"/>
            <a:ext cx="63385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Impact of technology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772080" y="1731960"/>
            <a:ext cx="1849320" cy="1428480"/>
            <a:chOff x="3772080" y="1731960"/>
            <a:chExt cx="1849320" cy="1428480"/>
          </a:xfrm>
        </p:grpSpPr>
        <p:sp>
          <p:nvSpPr>
            <p:cNvPr id="358" name=""/>
            <p:cNvSpPr/>
            <p:nvPr/>
          </p:nvSpPr>
          <p:spPr>
            <a:xfrm>
              <a:off x="3772080" y="173196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41800" y="173196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11520" y="173196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81600" y="173196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51680" y="173196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72080" y="201780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1800" y="201780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11520" y="201780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81600" y="201780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51680" y="201780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72080" y="230328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41800" y="230328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11520" y="230328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81600" y="230328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51680" y="230328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72080" y="258912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41800" y="258912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11520" y="258912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81600" y="258912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51680" y="258912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72080" y="287496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41800" y="287496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11520" y="287496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81600" y="287496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51680" y="287496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875760" y="1147680"/>
            <a:ext cx="173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43560" y="1809720"/>
            <a:ext cx="500040" cy="138240"/>
          </a:xfrm>
          <a:prstGeom prst="leftArrow">
            <a:avLst>
              <a:gd name="adj1" fmla="val 50000"/>
              <a:gd name="adj2" fmla="val 90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85360" y="168264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nk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6200000">
            <a:off x="2705400" y="2143800"/>
            <a:ext cx="13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3360" y="3591000"/>
            <a:ext cx="7412040" cy="244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6640" y="3664080"/>
            <a:ext cx="6911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or each technology capability, rank ‘impact’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ach product feature concept in 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     for low,      for medium, and        for high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dentify key technology capabilities that have hi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mpact across multiple features (synergy)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927560" y="3471840"/>
            <a:ext cx="1761120" cy="27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Impact is 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as the ‘pot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for satisfy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driver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Use ‘X’ i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impact is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‘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ross-impact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grids can b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to explo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dependencie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33440" y="4667400"/>
            <a:ext cx="85680" cy="212400"/>
          </a:xfrm>
          <a:custGeom>
            <a:avLst/>
            <a:gdLst/>
            <a:ahLst/>
            <a:rect l="l" t="t" r="r" b="b"/>
            <a:pathLst>
              <a:path w="50" h="134">
                <a:moveTo>
                  <a:pt x="0" y="87"/>
                </a:moveTo>
                <a:lnTo>
                  <a:pt x="12" y="134"/>
                </a:lnTo>
                <a:lnTo>
                  <a:pt x="5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567160" y="4667400"/>
            <a:ext cx="193320" cy="212400"/>
            <a:chOff x="2567160" y="4667400"/>
            <a:chExt cx="193320" cy="212400"/>
          </a:xfrm>
        </p:grpSpPr>
        <p:sp>
          <p:nvSpPr>
            <p:cNvPr id="392" name=""/>
            <p:cNvSpPr/>
            <p:nvPr/>
          </p:nvSpPr>
          <p:spPr>
            <a:xfrm>
              <a:off x="2567160" y="4667400"/>
              <a:ext cx="85320" cy="212400"/>
            </a:xfrm>
            <a:custGeom>
              <a:avLst/>
              <a:gdLst/>
              <a:ahLst/>
              <a:rect l="l" t="t" r="r" b="b"/>
              <a:pathLst>
                <a:path w="50" h="134">
                  <a:moveTo>
                    <a:pt x="0" y="87"/>
                  </a:moveTo>
                  <a:lnTo>
                    <a:pt x="12" y="134"/>
                  </a:lnTo>
                  <a:lnTo>
                    <a:pt x="5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75160" y="4667400"/>
              <a:ext cx="85320" cy="212400"/>
            </a:xfrm>
            <a:custGeom>
              <a:avLst/>
              <a:gdLst/>
              <a:ahLst/>
              <a:rect l="l" t="t" r="r" b="b"/>
              <a:pathLst>
                <a:path w="50" h="134">
                  <a:moveTo>
                    <a:pt x="0" y="87"/>
                  </a:moveTo>
                  <a:lnTo>
                    <a:pt x="12" y="134"/>
                  </a:lnTo>
                  <a:lnTo>
                    <a:pt x="5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995720" y="4667400"/>
            <a:ext cx="304560" cy="212400"/>
            <a:chOff x="4995720" y="4667400"/>
            <a:chExt cx="304560" cy="212400"/>
          </a:xfrm>
        </p:grpSpPr>
        <p:sp>
          <p:nvSpPr>
            <p:cNvPr id="395" name=""/>
            <p:cNvSpPr/>
            <p:nvPr/>
          </p:nvSpPr>
          <p:spPr>
            <a:xfrm>
              <a:off x="4995720" y="4667400"/>
              <a:ext cx="85680" cy="212400"/>
            </a:xfrm>
            <a:custGeom>
              <a:avLst/>
              <a:gdLst/>
              <a:ahLst/>
              <a:rect l="l" t="t" r="r" b="b"/>
              <a:pathLst>
                <a:path w="50" h="134">
                  <a:moveTo>
                    <a:pt x="0" y="87"/>
                  </a:moveTo>
                  <a:lnTo>
                    <a:pt x="12" y="134"/>
                  </a:lnTo>
                  <a:lnTo>
                    <a:pt x="5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04080" y="4667400"/>
              <a:ext cx="85680" cy="212400"/>
            </a:xfrm>
            <a:custGeom>
              <a:avLst/>
              <a:gdLst/>
              <a:ahLst/>
              <a:rect l="l" t="t" r="r" b="b"/>
              <a:pathLst>
                <a:path w="50" h="134">
                  <a:moveTo>
                    <a:pt x="0" y="87"/>
                  </a:moveTo>
                  <a:lnTo>
                    <a:pt x="12" y="134"/>
                  </a:lnTo>
                  <a:lnTo>
                    <a:pt x="5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14600" y="4667400"/>
              <a:ext cx="85680" cy="212400"/>
            </a:xfrm>
            <a:custGeom>
              <a:avLst/>
              <a:gdLst/>
              <a:ahLst/>
              <a:rect l="l" t="t" r="r" b="b"/>
              <a:pathLst>
                <a:path w="50" h="134">
                  <a:moveTo>
                    <a:pt x="0" y="87"/>
                  </a:moveTo>
                  <a:lnTo>
                    <a:pt x="12" y="134"/>
                  </a:lnTo>
                  <a:lnTo>
                    <a:pt x="5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6918120" y="60469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* 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1100160" y="396360"/>
            <a:ext cx="7399080" cy="5883480"/>
            <a:chOff x="1100160" y="396360"/>
            <a:chExt cx="7399080" cy="5883480"/>
          </a:xfrm>
        </p:grpSpPr>
        <p:sp>
          <p:nvSpPr>
            <p:cNvPr id="400" name=""/>
            <p:cNvSpPr/>
            <p:nvPr/>
          </p:nvSpPr>
          <p:spPr>
            <a:xfrm>
              <a:off x="4371480" y="2089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84400" y="2089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96960" y="208908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09880" y="2089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22800" y="2089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35360" y="208908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48280" y="2089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260840" y="2089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73760" y="208908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71480" y="2469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84400" y="2469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96960" y="246996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09880" y="2469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22800" y="2469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35360" y="246996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48280" y="2469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673760" y="246996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71480" y="2850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84400" y="2850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96960" y="2850840"/>
              <a:ext cx="41292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09880" y="2850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22800" y="2850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35360" y="2850840"/>
              <a:ext cx="41292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48280" y="2850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60840" y="2850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73760" y="2850840"/>
              <a:ext cx="41292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71480" y="3232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784400" y="3232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96960" y="323208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09880" y="3232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22800" y="3232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35360" y="323208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48280" y="3232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60840" y="3232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73760" y="323208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71480" y="3612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84400" y="3612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96960" y="361296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09880" y="3612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22800" y="3612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35360" y="361296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48280" y="3612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60840" y="3612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73760" y="361296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71480" y="3993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84400" y="3993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96960" y="3993840"/>
              <a:ext cx="41292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609880" y="3993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22800" y="3993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35360" y="3993840"/>
              <a:ext cx="41292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48280" y="3993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60840" y="3993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73760" y="3993840"/>
              <a:ext cx="41292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371480" y="4375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84400" y="4375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96960" y="437508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609880" y="4375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22800" y="4375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35360" y="437508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48280" y="4375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60840" y="4375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73760" y="437508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71480" y="4755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84400" y="4755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96960" y="475596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09880" y="4755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22800" y="4755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35360" y="475596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48280" y="4755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60840" y="4755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73760" y="475596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71480" y="5136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784400" y="5136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96960" y="5136840"/>
              <a:ext cx="41292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609880" y="5136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22800" y="5136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35360" y="5136840"/>
              <a:ext cx="41292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48280" y="5136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60840" y="5136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73760" y="5136840"/>
              <a:ext cx="41292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71480" y="5518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84400" y="5518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196960" y="551808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09880" y="5518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22800" y="5518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35360" y="551808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48280" y="5518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260840" y="5518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73760" y="551808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00160" y="2089080"/>
              <a:ext cx="32713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1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00160" y="2469960"/>
              <a:ext cx="32713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2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00160" y="2850840"/>
              <a:ext cx="327132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3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00160" y="3232080"/>
              <a:ext cx="32713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4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00160" y="3612960"/>
              <a:ext cx="32713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5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100160" y="3993840"/>
              <a:ext cx="327132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6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100160" y="4375080"/>
              <a:ext cx="32713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7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100160" y="4755960"/>
              <a:ext cx="32713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8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00160" y="5136840"/>
              <a:ext cx="327132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9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100160" y="5518080"/>
              <a:ext cx="32713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10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71480" y="396720"/>
              <a:ext cx="412560" cy="1692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84400" y="396720"/>
              <a:ext cx="412560" cy="1692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96960" y="396720"/>
              <a:ext cx="412920" cy="1692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09880" y="396720"/>
              <a:ext cx="412560" cy="1692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22800" y="396720"/>
              <a:ext cx="412560" cy="1692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35360" y="396720"/>
              <a:ext cx="412920" cy="1692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48280" y="396720"/>
              <a:ext cx="412560" cy="1692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60840" y="396720"/>
              <a:ext cx="412560" cy="1692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73760" y="396720"/>
              <a:ext cx="412920" cy="1692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00160" y="396720"/>
              <a:ext cx="3271320" cy="1692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1103400" y="396360"/>
              <a:ext cx="3268080" cy="169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83480" y="13190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echn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Sol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066480" y="564840"/>
              <a:ext cx="846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Fe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oncep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6200000">
              <a:off x="4400640" y="1764360"/>
              <a:ext cx="32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1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4818600" y="1769760"/>
              <a:ext cx="32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2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6200000">
              <a:off x="5226120" y="1766520"/>
              <a:ext cx="32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3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5639040" y="1779120"/>
              <a:ext cx="32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4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6046920" y="1779120"/>
              <a:ext cx="32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5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6200000">
              <a:off x="6478560" y="1766520"/>
              <a:ext cx="32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6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6200000">
              <a:off x="6892560" y="1763280"/>
              <a:ext cx="32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7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6200000">
              <a:off x="7286760" y="1780200"/>
              <a:ext cx="32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8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086680" y="2089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086680" y="2469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86680" y="2850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86680" y="3232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086680" y="3612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086680" y="3993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086680" y="4375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086680" y="4755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086680" y="5136840"/>
              <a:ext cx="41256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86680" y="551808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86680" y="396720"/>
              <a:ext cx="412560" cy="1692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6200000">
              <a:off x="7696080" y="1779120"/>
              <a:ext cx="32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9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6200000">
              <a:off x="8074080" y="1744200"/>
              <a:ext cx="39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10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71480" y="5898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84400" y="5898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96960" y="589896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09880" y="5898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22800" y="5898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35360" y="589896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48280" y="5898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60840" y="5898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73760" y="5898960"/>
              <a:ext cx="4129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100160" y="5898960"/>
              <a:ext cx="327132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11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86680" y="5898960"/>
              <a:ext cx="412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4213800" y="1181160"/>
            <a:ext cx="1224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Ga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25640" y="2494080"/>
            <a:ext cx="5904000" cy="85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69440" y="2670120"/>
            <a:ext cx="51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key ‘gaps’ in current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64400" y="4102200"/>
            <a:ext cx="72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onsider risk, uncertainty, maturity, development time, skills, competences, 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72240" y="4508640"/>
            <a:ext cx="48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onsider competitor and supplier activity / compet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11840" y="4906800"/>
            <a:ext cx="54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onsider sources of information and mechanisms for filling g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37600" y="1393920"/>
            <a:ext cx="747072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 Narrow"/>
              </a:rPr>
              <a:t>Fast-Start Technology Roadmapping</a:t>
            </a:r>
            <a:br>
              <a:rPr sz="4000"/>
            </a:br>
            <a:br>
              <a:rPr sz="1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 Narrow"/>
              </a:rPr>
              <a:t>[Company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Workshop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(Techn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42320" y="2508120"/>
            <a:ext cx="531684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chnology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ther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roup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mpact on product feature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9360" y="1185840"/>
            <a:ext cx="418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Workshop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47840" y="2584440"/>
            <a:ext cx="67968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.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.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3.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4.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5.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80920" y="638280"/>
            <a:ext cx="801720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Fast-start technology roadmapping at [Compan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 Narrow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50240" y="595440"/>
            <a:ext cx="66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Technology Roadmap (TRM) - Sche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27320" y="1809720"/>
            <a:ext cx="5986440" cy="405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45520" y="1727280"/>
            <a:ext cx="931680" cy="620640"/>
          </a:xfrm>
          <a:prstGeom prst="rightArrow">
            <a:avLst>
              <a:gd name="adj1" fmla="val 68750"/>
              <a:gd name="adj2" fmla="val 388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16440" y="183204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6000" y="2041560"/>
            <a:ext cx="143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usiness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1680" y="341136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duct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9400" y="493884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226960" y="3159000"/>
            <a:ext cx="59864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26960" y="4511520"/>
            <a:ext cx="59864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06840" y="4665600"/>
            <a:ext cx="1682640" cy="238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7720" y="3522600"/>
            <a:ext cx="1677960" cy="238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87920" y="5068800"/>
            <a:ext cx="167472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65760" y="5472000"/>
            <a:ext cx="1676160" cy="239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05480" y="3892680"/>
            <a:ext cx="1676160" cy="239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34000" y="2324160"/>
            <a:ext cx="317520" cy="28872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37360" y="2327400"/>
            <a:ext cx="312840" cy="2854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53240" y="5062680"/>
            <a:ext cx="1672920" cy="237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00600" y="3522600"/>
            <a:ext cx="1673280" cy="241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170240" y="3763440"/>
            <a:ext cx="0" cy="90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337000" y="4119480"/>
            <a:ext cx="0" cy="95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226280" y="3763800"/>
            <a:ext cx="0" cy="130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8560" y="364500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73800" y="518652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89480" y="4784760"/>
            <a:ext cx="138240" cy="285840"/>
          </a:xfrm>
          <a:custGeom>
            <a:avLst/>
            <a:gdLst/>
            <a:ahLst/>
            <a:rect l="l" t="t" r="r" b="b"/>
            <a:pathLst>
              <a:path w="52" h="113">
                <a:moveTo>
                  <a:pt x="0" y="0"/>
                </a:moveTo>
                <a:lnTo>
                  <a:pt x="52" y="0"/>
                </a:lnTo>
                <a:lnTo>
                  <a:pt x="52" y="1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68920" y="3763800"/>
            <a:ext cx="0" cy="1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10200" y="53038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392880" y="53038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02600" y="2612880"/>
            <a:ext cx="0" cy="897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98880" y="2612880"/>
            <a:ext cx="0" cy="909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0120" y="2665440"/>
            <a:ext cx="1814400" cy="23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09920" y="3557520"/>
            <a:ext cx="279360" cy="595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62360" y="2665440"/>
            <a:ext cx="1814400" cy="23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70360" y="3557520"/>
            <a:ext cx="281160" cy="595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22800" y="2665440"/>
            <a:ext cx="1814400" cy="23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34040" y="3557520"/>
            <a:ext cx="277920" cy="595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85040" y="2665440"/>
            <a:ext cx="1814400" cy="23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8640" y="2712960"/>
            <a:ext cx="137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Worksho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76920" y="2709720"/>
            <a:ext cx="137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Worksho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22240" y="2712960"/>
            <a:ext cx="137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Worksho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92760" y="2712960"/>
            <a:ext cx="137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Worksho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Ch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8760" y="3452760"/>
            <a:ext cx="17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rket /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iorit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89360" y="3452760"/>
            <a:ext cx="166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duct 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ou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act ra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duct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69960" y="3452760"/>
            <a:ext cx="152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ou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act ra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0920" y="3452760"/>
            <a:ext cx="143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in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source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ture mark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50920" y="51292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08480" y="51292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84760" y="51292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47000" y="51292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9080" y="701640"/>
            <a:ext cx="811224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T-Plan: Fast-Start Technology Road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952720" y="2044800"/>
            <a:ext cx="5138640" cy="347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61200" y="1554120"/>
            <a:ext cx="800280" cy="420840"/>
          </a:xfrm>
          <a:prstGeom prst="rightArrow">
            <a:avLst>
              <a:gd name="adj1" fmla="val 68750"/>
              <a:gd name="adj2" fmla="val 4924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97560" y="15559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00400" y="2314440"/>
            <a:ext cx="145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77880" y="3568680"/>
            <a:ext cx="128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37680" y="472428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952720" y="3203640"/>
            <a:ext cx="5138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952720" y="4362480"/>
            <a:ext cx="5138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249960" y="2519280"/>
            <a:ext cx="1483560" cy="1369440"/>
            <a:chOff x="6249960" y="2519280"/>
            <a:chExt cx="1483560" cy="1369440"/>
          </a:xfrm>
        </p:grpSpPr>
        <p:sp>
          <p:nvSpPr>
            <p:cNvPr id="115" name=""/>
            <p:cNvSpPr/>
            <p:nvPr/>
          </p:nvSpPr>
          <p:spPr>
            <a:xfrm>
              <a:off x="6249960" y="251928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46240" y="251928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43600" y="251928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39880" y="251928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36520" y="251928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49960" y="27936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46240" y="279360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3600" y="27936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39880" y="27936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36520" y="279360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49960" y="30672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46240" y="306720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43600" y="30672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39880" y="30672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36520" y="306720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49960" y="334080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46240" y="334080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0" y="334080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39880" y="334080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36520" y="334080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49960" y="361512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46240" y="361512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43600" y="361512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39880" y="361512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36520" y="361512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 rot="16200000">
            <a:off x="5262120" y="3045600"/>
            <a:ext cx="1503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duct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33080" y="213372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usiness / Market d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530520" y="3678120"/>
            <a:ext cx="1483560" cy="1369440"/>
            <a:chOff x="3530520" y="3678120"/>
            <a:chExt cx="1483560" cy="1369440"/>
          </a:xfrm>
        </p:grpSpPr>
        <p:sp>
          <p:nvSpPr>
            <p:cNvPr id="143" name=""/>
            <p:cNvSpPr/>
            <p:nvPr/>
          </p:nvSpPr>
          <p:spPr>
            <a:xfrm>
              <a:off x="3530520" y="367812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26800" y="367812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24160" y="367812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20440" y="367812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17080" y="367812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30520" y="39524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26800" y="395244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24160" y="39524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20440" y="39524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17080" y="395244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30520" y="42260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26800" y="422604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24160" y="42260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20440" y="42260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17080" y="422604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30520" y="449964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26800" y="449964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24160" y="449964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20440" y="449964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17080" y="449964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30520" y="477396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26800" y="477396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4160" y="477396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20440" y="477396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17080" y="477396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H="1" rot="16200000">
            <a:off x="4692960" y="2222280"/>
            <a:ext cx="257040" cy="2127240"/>
          </a:xfrm>
          <a:custGeom>
            <a:avLst/>
            <a:gdLst>
              <a:gd name="textAreaLeft" fmla="*/ 360 w 257040"/>
              <a:gd name="textAreaRight" fmla="*/ 257760 w 257040"/>
              <a:gd name="textAreaTop" fmla="*/ 0 h 2127240"/>
              <a:gd name="textAreaBottom" fmla="*/ 2127600 h 2127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35200" y="3355920"/>
            <a:ext cx="150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duct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2273760" y="4238280"/>
            <a:ext cx="190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echnology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79680" y="1125360"/>
            <a:ext cx="242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81600" y="1413000"/>
            <a:ext cx="798480" cy="11588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0" y="0"/>
                </a:moveTo>
                <a:lnTo>
                  <a:pt x="96" y="0"/>
                </a:lnTo>
                <a:lnTo>
                  <a:pt x="528" y="4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73600" y="5100480"/>
            <a:ext cx="569880" cy="10540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864"/>
                </a:moveTo>
                <a:lnTo>
                  <a:pt x="144" y="864"/>
                </a:lnTo>
                <a:lnTo>
                  <a:pt x="4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040280" y="3968640"/>
            <a:ext cx="2852640" cy="2192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71720" y="5848200"/>
            <a:ext cx="194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42920" y="411120"/>
            <a:ext cx="62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Roadmap Input Data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90880" y="2301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03800" y="2301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2301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29280" y="2301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41840" y="2301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54760" y="2301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67320" y="2301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0240" y="2301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92800" y="2301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90880" y="2682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03800" y="2682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16360" y="2682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29280" y="2682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41840" y="2682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54760" y="2682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67320" y="2682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92800" y="2682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0880" y="3063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03800" y="3063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16360" y="3063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29280" y="3063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41840" y="3063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54760" y="3063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67320" y="3063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0240" y="3063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92800" y="3063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90880" y="3444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03800" y="3444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16360" y="3444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29280" y="3444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41840" y="3444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54760" y="3444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67320" y="3444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80240" y="3444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92800" y="3444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90880" y="3825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03800" y="3825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16360" y="3825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29280" y="3825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41840" y="3825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54760" y="3825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67320" y="3825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80240" y="3825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92800" y="3825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90880" y="4206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03800" y="4206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4206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29280" y="4206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41840" y="4206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4760" y="4206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67320" y="4206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0240" y="4206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92800" y="4206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90880" y="4587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03800" y="4587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16360" y="4587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29280" y="4587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41840" y="4587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54760" y="4587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67320" y="4587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80240" y="4587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92800" y="4587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90880" y="4968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03800" y="4968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16360" y="4968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29280" y="4968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41840" y="4968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54760" y="4968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67320" y="4968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0240" y="4968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92800" y="4968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90880" y="5349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03800" y="5349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5349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29280" y="5349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41840" y="5349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54760" y="5349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67320" y="5349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0240" y="5349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92800" y="5349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90880" y="5730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03800" y="5730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5730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29280" y="5730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41840" y="5730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54760" y="5730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67320" y="5730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80240" y="5730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92800" y="5730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1520" y="2301840"/>
            <a:ext cx="32493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1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1520" y="2682720"/>
            <a:ext cx="32493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2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1520" y="3063960"/>
            <a:ext cx="32493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3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1520" y="3444840"/>
            <a:ext cx="32493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4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1520" y="3825720"/>
            <a:ext cx="32493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5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1520" y="4206960"/>
            <a:ext cx="32493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6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1520" y="4587840"/>
            <a:ext cx="32493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7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1520" y="4968720"/>
            <a:ext cx="32493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8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1520" y="5349960"/>
            <a:ext cx="32493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1520" y="5730840"/>
            <a:ext cx="32493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10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90880" y="849240"/>
            <a:ext cx="41292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03800" y="849240"/>
            <a:ext cx="41256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16360" y="849240"/>
            <a:ext cx="41292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29280" y="849240"/>
            <a:ext cx="41256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41840" y="849240"/>
            <a:ext cx="41292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54760" y="849240"/>
            <a:ext cx="41256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67320" y="849240"/>
            <a:ext cx="41292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80240" y="849240"/>
            <a:ext cx="41256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92800" y="849240"/>
            <a:ext cx="41292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1520" y="849240"/>
            <a:ext cx="324936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27120" y="846000"/>
            <a:ext cx="3263760" cy="145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75160" y="1438200"/>
            <a:ext cx="8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35360" y="977760"/>
            <a:ext cx="82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rket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3942000" y="201024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1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4356360" y="201996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2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6200000">
            <a:off x="4770720" y="201024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3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5181840" y="202464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4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5594400" y="202464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5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007320" y="202464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6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6419880" y="202464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7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6832800" y="202464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8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05720" y="2301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05720" y="2682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05720" y="3063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05720" y="3444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05720" y="3825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05720" y="4206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05720" y="4587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05720" y="4968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5349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05720" y="5730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05720" y="849240"/>
            <a:ext cx="41292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7234200" y="20142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7646760" y="20142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B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15400" y="2301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427960" y="2301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427960" y="2682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15400" y="3063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427960" y="3063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15400" y="3444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427960" y="3444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15400" y="3825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427960" y="3825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015400" y="4206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427960" y="4206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15400" y="4587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27960" y="4587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15400" y="4968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427960" y="4968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015400" y="5349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427960" y="5349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15400" y="5730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427960" y="5730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015400" y="849240"/>
            <a:ext cx="41256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27960" y="849240"/>
            <a:ext cx="41292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8059680" y="20142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840880" y="2301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840880" y="2682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840880" y="3063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840880" y="3444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840880" y="3825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840880" y="4206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840880" y="4587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840880" y="4968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40880" y="5349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840880" y="5730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840880" y="849240"/>
            <a:ext cx="41256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8470800" y="20142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8886240" y="20167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5488560" y="-886320"/>
            <a:ext cx="109800" cy="3263760"/>
          </a:xfrm>
          <a:custGeom>
            <a:avLst/>
            <a:gdLst>
              <a:gd name="textAreaLeft" fmla="*/ 70200 w 109800"/>
              <a:gd name="textAreaRight" fmla="*/ 110160 w 109800"/>
              <a:gd name="textAreaTop" fmla="*/ 84960 h 3263760"/>
              <a:gd name="textAreaBottom" fmla="*/ 3178800 h 326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5400000">
            <a:off x="8170560" y="-277560"/>
            <a:ext cx="109800" cy="2046240"/>
          </a:xfrm>
          <a:custGeom>
            <a:avLst/>
            <a:gdLst>
              <a:gd name="textAreaLeft" fmla="*/ 70200 w 109800"/>
              <a:gd name="textAreaRight" fmla="*/ 110160 w 109800"/>
              <a:gd name="textAreaTop" fmla="*/ 53280 h 2046240"/>
              <a:gd name="textAreaBottom" fmla="*/ 1992960 h 204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25400" y="41112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774920" y="4111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[Company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623680" y="484200"/>
            <a:ext cx="44866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Technology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9600" y="3003480"/>
            <a:ext cx="6026040" cy="292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1840" y="1339920"/>
            <a:ext cx="95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se are potential technological solutions which could deliv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ired product / service features, grouped into ar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1840" y="2336760"/>
            <a:ext cx="95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xamples: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  intelligent control; laser cutting &amp; jo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8000" y="3051000"/>
            <a:ext cx="58878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each product feature in tur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instorm possible technology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oup solutions into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eas / routes (10 m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other key resource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p links to performance dimension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36240" y="2895480"/>
            <a:ext cx="301356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onsider technological problem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onstraints and challe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Technology areas may b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existing areas, programm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platforms, or compet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onsider component, desig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manufacturing, informa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process, ‘hard’ and ‘soft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technological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Other resources incl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skills, competences, allianc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knowledge, capital invest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02240" y="59626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* 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0T12:27:48Z</dcterms:created>
  <dc:creator>Rob Phaal</dc:creator>
  <dc:description/>
  <dc:language>en-US</dc:language>
  <cp:lastModifiedBy>rp108</cp:lastModifiedBy>
  <cp:lastPrinted>1999-08-04T14:10:04Z</cp:lastPrinted>
  <dcterms:modified xsi:type="dcterms:W3CDTF">2001-10-23T13:07:11Z</dcterms:modified>
  <cp:revision>79</cp:revision>
  <dc:subject/>
  <dc:title>No Slide Title</dc:title>
</cp:coreProperties>
</file>