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237960"/>
            <a:ext cx="9600840" cy="6245280"/>
            <a:chOff x="152280" y="237960"/>
            <a:chExt cx="9600840" cy="6245280"/>
          </a:xfrm>
        </p:grpSpPr>
        <p:sp>
          <p:nvSpPr>
            <p:cNvPr id="1" name=""/>
            <p:cNvSpPr/>
            <p:nvPr/>
          </p:nvSpPr>
          <p:spPr>
            <a:xfrm>
              <a:off x="152280" y="23796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483240"/>
              <a:ext cx="960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74840" y="66600"/>
            <a:ext cx="1504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49360" y="100080"/>
            <a:ext cx="13381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-Pl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983360" y="649620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0520" y="6292800"/>
            <a:ext cx="116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ko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2800" y="557280"/>
            <a:ext cx="4633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Group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duct Planning at Bik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5000" y="2303640"/>
            <a:ext cx="837972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iko, a small traditional but well regarded bicycle manufacturer has just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ken over by a large sports equipment and clothing manufacturer, Sport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new owner has requested a technology roadmap outlining how Biko pro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o develop its market offering over the next 10 years, and if convinced by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siness case is willing to make significant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 preliminary market review and SWOT analysis have resulted in two area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otential interest being identif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1. Power assisted bicycles for comm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. High performance ‘lifestyle’ bi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ke" descr=""/>
          <p:cNvPicPr/>
          <p:nvPr/>
        </p:nvPicPr>
        <p:blipFill>
          <a:blip r:embed="rId1"/>
          <a:stretch/>
        </p:blipFill>
        <p:spPr>
          <a:xfrm>
            <a:off x="595440" y="233208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46" name="bike" descr=""/>
          <p:cNvPicPr/>
          <p:nvPr/>
        </p:nvPicPr>
        <p:blipFill>
          <a:blip r:embed="rId2"/>
          <a:stretch/>
        </p:blipFill>
        <p:spPr>
          <a:xfrm>
            <a:off x="595440" y="315108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47" name="bike" descr=""/>
          <p:cNvPicPr/>
          <p:nvPr/>
        </p:nvPicPr>
        <p:blipFill>
          <a:blip r:embed="rId3"/>
          <a:stretch/>
        </p:blipFill>
        <p:spPr>
          <a:xfrm>
            <a:off x="595440" y="4303800"/>
            <a:ext cx="341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24080" y="219240"/>
            <a:ext cx="7006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Workshop 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duct Planning at Biko: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7640" y="1359000"/>
            <a:ext cx="78966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art the drivers agains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are the critical performance dimensions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on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of the op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what are the current problems with bikes? desirable feat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agree a maximum of 5 performance dimensions / feature concepts to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flesh out the 10 year vision on the chart (product level) - think about the product brochure of th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 the time dimension to explore the evolution of bike features /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consider the features of prototype, launch, and next generation bi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chart the evolution on the roadmap (product le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technology areas will be crucial for the development of the product in the fu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agree a maximum of 5 technology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chart the evolution of technology on the roadmap (technology le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dentify key questions that would need further invest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market, product and technolog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raw on the chart the main linkages between technology, product features and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sider the resource implications for each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e.g capital, competences, skills, alliances, knowledg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chart resource requirements and other related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ike" descr=""/>
          <p:cNvPicPr/>
          <p:nvPr/>
        </p:nvPicPr>
        <p:blipFill>
          <a:blip r:embed="rId1"/>
          <a:stretch/>
        </p:blipFill>
        <p:spPr>
          <a:xfrm>
            <a:off x="719280" y="1368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1" name="bike" descr=""/>
          <p:cNvPicPr/>
          <p:nvPr/>
        </p:nvPicPr>
        <p:blipFill>
          <a:blip r:embed="rId2"/>
          <a:stretch/>
        </p:blipFill>
        <p:spPr>
          <a:xfrm>
            <a:off x="719280" y="176544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2" name="bike" descr=""/>
          <p:cNvPicPr/>
          <p:nvPr/>
        </p:nvPicPr>
        <p:blipFill>
          <a:blip r:embed="rId3"/>
          <a:stretch/>
        </p:blipFill>
        <p:spPr>
          <a:xfrm>
            <a:off x="719280" y="286704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bike" descr=""/>
          <p:cNvPicPr/>
          <p:nvPr/>
        </p:nvPicPr>
        <p:blipFill>
          <a:blip r:embed="rId4"/>
          <a:stretch/>
        </p:blipFill>
        <p:spPr>
          <a:xfrm>
            <a:off x="719280" y="375444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4" name="bike" descr=""/>
          <p:cNvPicPr/>
          <p:nvPr/>
        </p:nvPicPr>
        <p:blipFill>
          <a:blip r:embed="rId5"/>
          <a:stretch/>
        </p:blipFill>
        <p:spPr>
          <a:xfrm>
            <a:off x="719280" y="462744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5" name="bike" descr=""/>
          <p:cNvPicPr/>
          <p:nvPr/>
        </p:nvPicPr>
        <p:blipFill>
          <a:blip r:embed="rId6"/>
          <a:stretch/>
        </p:blipFill>
        <p:spPr>
          <a:xfrm>
            <a:off x="719280" y="524340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56" name="bike" descr=""/>
          <p:cNvPicPr/>
          <p:nvPr/>
        </p:nvPicPr>
        <p:blipFill>
          <a:blip r:embed="rId7"/>
          <a:stretch/>
        </p:blipFill>
        <p:spPr>
          <a:xfrm>
            <a:off x="719280" y="561816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8040" y="1411200"/>
            <a:ext cx="2087640" cy="89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f in doubt, don’t worr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Just note any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de on the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920" y="266760"/>
            <a:ext cx="43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Biko - Roadmap temp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6160" y="741240"/>
            <a:ext cx="9713160" cy="5592960"/>
            <a:chOff x="146160" y="741240"/>
            <a:chExt cx="9713160" cy="5592960"/>
          </a:xfrm>
        </p:grpSpPr>
        <p:sp>
          <p:nvSpPr>
            <p:cNvPr id="60" name=""/>
            <p:cNvSpPr/>
            <p:nvPr/>
          </p:nvSpPr>
          <p:spPr>
            <a:xfrm>
              <a:off x="185760" y="1160640"/>
              <a:ext cx="9555120" cy="1081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5760" y="2241720"/>
              <a:ext cx="9555120" cy="15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5760" y="3832200"/>
              <a:ext cx="9555120" cy="1590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760" y="5423040"/>
              <a:ext cx="955512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87360" y="1160640"/>
              <a:ext cx="0" cy="511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97680" y="741240"/>
              <a:ext cx="838440" cy="365400"/>
            </a:xfrm>
            <a:prstGeom prst="rightArrow">
              <a:avLst>
                <a:gd name="adj1" fmla="val 64583"/>
                <a:gd name="adj2" fmla="val 5736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13160" y="7477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74088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454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1022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8736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8600" y="7858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4084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2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9016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5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268560" y="78588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10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2200" y="1157400"/>
              <a:ext cx="0" cy="511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5400" y="1157400"/>
              <a:ext cx="0" cy="511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880" y="1662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27972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6880" y="33148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-55800" y="152568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498960" y="1191960"/>
              <a:ext cx="58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(Ex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422280" y="172836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(In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-97560" y="28630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-245520" y="444456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-52560" y="5581800"/>
              <a:ext cx="9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sources / 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2480" y="43718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2480" y="4889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200" y="26676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Biko - Business Dri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6160" y="741240"/>
            <a:ext cx="9713160" cy="5592960"/>
            <a:chOff x="146160" y="741240"/>
            <a:chExt cx="9713160" cy="5592960"/>
          </a:xfrm>
        </p:grpSpPr>
        <p:sp>
          <p:nvSpPr>
            <p:cNvPr id="90" name=""/>
            <p:cNvSpPr/>
            <p:nvPr/>
          </p:nvSpPr>
          <p:spPr>
            <a:xfrm>
              <a:off x="185760" y="1160640"/>
              <a:ext cx="9555120" cy="1081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5760" y="2241720"/>
              <a:ext cx="9555120" cy="15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760" y="3832200"/>
              <a:ext cx="9555120" cy="1590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5760" y="5423040"/>
              <a:ext cx="955512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7360" y="1160640"/>
              <a:ext cx="0" cy="511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97680" y="741240"/>
              <a:ext cx="838440" cy="365400"/>
            </a:xfrm>
            <a:prstGeom prst="rightArrow">
              <a:avLst>
                <a:gd name="adj1" fmla="val 64583"/>
                <a:gd name="adj2" fmla="val 5736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13160" y="7477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974088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8454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1022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28736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8600" y="7858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4084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2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9016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5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68560" y="78588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10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2200" y="1157400"/>
              <a:ext cx="0" cy="511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5400" y="1157400"/>
              <a:ext cx="0" cy="511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6880" y="1662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6880" y="27972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" y="33148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-55800" y="152568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498960" y="1191960"/>
              <a:ext cx="58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(Ex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422280" y="172836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(In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-97560" y="28616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-245520" y="444276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52560" y="5581800"/>
              <a:ext cx="9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esources / 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2480" y="43718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2480" y="4889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283440" y="1255680"/>
            <a:ext cx="338616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egislation: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AT off bikes; cycle path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4840" y="1703520"/>
            <a:ext cx="132876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w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03640" y="1774800"/>
            <a:ext cx="105876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w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1771560"/>
            <a:ext cx="132876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nd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255680"/>
            <a:ext cx="331596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ends: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leisure, health, disposable income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1200" y="1252440"/>
            <a:ext cx="116352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2400" y="1771560"/>
            <a:ext cx="117648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mon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5040" y="26676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Biko - Product ev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6160" y="741240"/>
            <a:ext cx="9713160" cy="5592960"/>
            <a:chOff x="146160" y="741240"/>
            <a:chExt cx="9713160" cy="5592960"/>
          </a:xfrm>
        </p:grpSpPr>
        <p:sp>
          <p:nvSpPr>
            <p:cNvPr id="127" name=""/>
            <p:cNvSpPr/>
            <p:nvPr/>
          </p:nvSpPr>
          <p:spPr>
            <a:xfrm>
              <a:off x="185760" y="1160640"/>
              <a:ext cx="9555120" cy="1081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5760" y="2241720"/>
              <a:ext cx="9555120" cy="15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5760" y="3832200"/>
              <a:ext cx="9555120" cy="1590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5760" y="5423040"/>
              <a:ext cx="955512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87360" y="1160640"/>
              <a:ext cx="0" cy="511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7680" y="741240"/>
              <a:ext cx="838440" cy="365400"/>
            </a:xfrm>
            <a:prstGeom prst="rightArrow">
              <a:avLst>
                <a:gd name="adj1" fmla="val 64583"/>
                <a:gd name="adj2" fmla="val 5736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13160" y="7477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974088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8454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022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28736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8600" y="7858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4084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2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016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5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268560" y="78588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10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02200" y="1157400"/>
              <a:ext cx="0" cy="511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5400" y="1157400"/>
              <a:ext cx="0" cy="511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880" y="1662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880" y="27972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6880" y="33148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-32760" y="15469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508320" y="1190160"/>
              <a:ext cx="56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(Ex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444960" y="1726920"/>
              <a:ext cx="68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(In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-97560" y="28598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-245520" y="444276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-52560" y="5581800"/>
              <a:ext cx="9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esources / 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2480" y="43718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480" y="4889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rot="16200000">
            <a:off x="8827200" y="2875320"/>
            <a:ext cx="132876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er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2160" y="2906640"/>
            <a:ext cx="92700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£500-1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50240" y="304488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5320" y="234144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840" y="28828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5600" y="33955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92120" y="2398680"/>
            <a:ext cx="128124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igner lo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9280" y="2828880"/>
            <a:ext cx="1044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rgono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98640" y="3452760"/>
            <a:ext cx="220968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rect d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1160" y="2401920"/>
            <a:ext cx="14475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n-line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3440" y="1255680"/>
            <a:ext cx="33861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egislation: VAT off bikes; cycle path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1703520"/>
            <a:ext cx="1328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3640" y="1741320"/>
            <a:ext cx="105876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97640" y="1704960"/>
            <a:ext cx="195120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nd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your own 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2240" y="1255680"/>
            <a:ext cx="33159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ends: leisure, health, disposable in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21200" y="1252440"/>
            <a:ext cx="116352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400" y="1738440"/>
            <a:ext cx="117648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mon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63960" y="2828880"/>
            <a:ext cx="1044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ul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3320" y="2943360"/>
            <a:ext cx="189540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ustomised 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8720" y="2398680"/>
            <a:ext cx="120960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xpand 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91120" y="3459240"/>
            <a:ext cx="131760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uto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3720" y="3456000"/>
            <a:ext cx="12459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ip-on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03640" y="3597120"/>
            <a:ext cx="36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7600" y="359424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292640" y="2080800"/>
            <a:ext cx="0" cy="150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70120" y="2529000"/>
            <a:ext cx="22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28960" y="3057480"/>
            <a:ext cx="12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03640" y="3046320"/>
            <a:ext cx="17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6240" y="2540160"/>
            <a:ext cx="175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02600" y="2187720"/>
            <a:ext cx="341280" cy="1398600"/>
          </a:xfrm>
          <a:custGeom>
            <a:avLst/>
            <a:gdLst/>
            <a:ahLst/>
            <a:rect l="l" t="t" r="r" b="b"/>
            <a:pathLst>
              <a:path w="215" h="881">
                <a:moveTo>
                  <a:pt x="0" y="881"/>
                </a:moveTo>
                <a:lnTo>
                  <a:pt x="215" y="881"/>
                </a:lnTo>
                <a:lnTo>
                  <a:pt x="21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02600" y="252900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02600" y="305748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21320" y="266688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5480" y="2667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Biko - Technology nee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5760" y="1160640"/>
            <a:ext cx="955512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5760" y="2241720"/>
            <a:ext cx="9555120" cy="15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5760" y="3832200"/>
            <a:ext cx="9555120" cy="159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760" y="5423040"/>
            <a:ext cx="955512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87360" y="1160640"/>
            <a:ext cx="0" cy="511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97680" y="741240"/>
            <a:ext cx="838440" cy="365400"/>
          </a:xfrm>
          <a:prstGeom prst="rightArrow">
            <a:avLst>
              <a:gd name="adj1" fmla="val 64583"/>
              <a:gd name="adj2" fmla="val 5736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3160" y="7477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40880" y="1033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45400" y="1033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2200" y="1033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87360" y="1033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38600" y="78588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0840" y="7858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+ 2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90160" y="7858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+ 5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68560" y="7858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+ 10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02200" y="1157400"/>
            <a:ext cx="0" cy="5118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45400" y="1157400"/>
            <a:ext cx="0" cy="5119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6880" y="1662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6880" y="27972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6880" y="3314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2760" y="154692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508320" y="1190160"/>
            <a:ext cx="56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(Ex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444960" y="17269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(I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97560" y="28598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-245520" y="44395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-52560" y="5581800"/>
            <a:ext cx="98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ources /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2480" y="437184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2480" y="50227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8827200" y="2875320"/>
            <a:ext cx="13287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per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82160" y="2906640"/>
            <a:ext cx="9270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£500-1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50240" y="30448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2680" y="23432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640" y="288432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960" y="33973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92120" y="2398680"/>
            <a:ext cx="12812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er lo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2828880"/>
            <a:ext cx="10443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rgono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98640" y="3452760"/>
            <a:ext cx="22096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rect d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1160" y="2401920"/>
            <a:ext cx="144756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-line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83440" y="1255680"/>
            <a:ext cx="33861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egislation: VAT off bikes; cycle path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4840" y="1703520"/>
            <a:ext cx="1328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03640" y="1741320"/>
            <a:ext cx="105876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7640" y="1704960"/>
            <a:ext cx="195120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nd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your own 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62240" y="1255680"/>
            <a:ext cx="33159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ends: leisure, health, disposable in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21200" y="1252440"/>
            <a:ext cx="116352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2400" y="1738440"/>
            <a:ext cx="117648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mon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63960" y="2828880"/>
            <a:ext cx="10443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ul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3320" y="2943360"/>
            <a:ext cx="189540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ised 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8720" y="2398680"/>
            <a:ext cx="12096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pand 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91120" y="3459240"/>
            <a:ext cx="131760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toma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0080" y="3456000"/>
            <a:ext cx="12096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hip-on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03640" y="359712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92640" y="2080800"/>
            <a:ext cx="0" cy="15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76600" y="252900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06880" y="3046320"/>
            <a:ext cx="18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0120" y="2540160"/>
            <a:ext cx="17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02600" y="2187720"/>
            <a:ext cx="341280" cy="1398600"/>
          </a:xfrm>
          <a:custGeom>
            <a:avLst/>
            <a:gdLst/>
            <a:ahLst/>
            <a:rect l="l" t="t" r="r" b="b"/>
            <a:pathLst>
              <a:path w="215" h="881">
                <a:moveTo>
                  <a:pt x="0" y="881"/>
                </a:moveTo>
                <a:lnTo>
                  <a:pt x="215" y="881"/>
                </a:lnTo>
                <a:lnTo>
                  <a:pt x="2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02600" y="2529000"/>
            <a:ext cx="33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2600" y="30574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421320" y="267336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35440" y="3057480"/>
            <a:ext cx="1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360" y="3927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440" y="444168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440" y="50403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38360" y="3871800"/>
            <a:ext cx="1023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t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1160" y="5087880"/>
            <a:ext cx="144756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8200" y="4435560"/>
            <a:ext cx="104796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rgono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78360"/>
            <a:ext cx="170640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ss custom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06880" y="5087880"/>
            <a:ext cx="118908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39920" y="4437000"/>
            <a:ext cx="96516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terials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0480" y="4743360"/>
            <a:ext cx="119700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isu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79680" y="4695840"/>
            <a:ext cx="890640" cy="2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D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16240" y="3863880"/>
            <a:ext cx="96516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t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75280" y="4092480"/>
            <a:ext cx="64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845320" y="3209760"/>
            <a:ext cx="0" cy="76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45320" y="2670120"/>
            <a:ext cx="258480" cy="728640"/>
          </a:xfrm>
          <a:custGeom>
            <a:avLst/>
            <a:gdLst/>
            <a:ahLst/>
            <a:rect l="l" t="t" r="r" b="b"/>
            <a:pathLst>
              <a:path w="163" h="459">
                <a:moveTo>
                  <a:pt x="0" y="459"/>
                </a:moveTo>
                <a:lnTo>
                  <a:pt x="163" y="459"/>
                </a:lnTo>
                <a:lnTo>
                  <a:pt x="16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73360" y="4092480"/>
            <a:ext cx="2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292640" y="3598920"/>
            <a:ext cx="0" cy="84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0320" y="4869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845320" y="423828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5210280"/>
            <a:ext cx="56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7600" y="3594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821120"/>
            <a:ext cx="164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16360" y="372708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55960" y="409248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5840" y="3598920"/>
            <a:ext cx="338040" cy="1622520"/>
          </a:xfrm>
          <a:custGeom>
            <a:avLst/>
            <a:gdLst/>
            <a:ahLst/>
            <a:rect l="l" t="t" r="r" b="b"/>
            <a:pathLst>
              <a:path w="185" h="1022">
                <a:moveTo>
                  <a:pt x="0" y="1022"/>
                </a:moveTo>
                <a:lnTo>
                  <a:pt x="185" y="1022"/>
                </a:lnTo>
                <a:lnTo>
                  <a:pt x="18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857840" y="3727080"/>
            <a:ext cx="0" cy="135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11840" y="4092480"/>
            <a:ext cx="39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00680" y="4869000"/>
            <a:ext cx="1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6920" y="266760"/>
            <a:ext cx="39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Resource / other nee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6160" y="741240"/>
            <a:ext cx="9713160" cy="5592960"/>
            <a:chOff x="146160" y="741240"/>
            <a:chExt cx="9713160" cy="5592960"/>
          </a:xfrm>
        </p:grpSpPr>
        <p:sp>
          <p:nvSpPr>
            <p:cNvPr id="279" name=""/>
            <p:cNvSpPr/>
            <p:nvPr/>
          </p:nvSpPr>
          <p:spPr>
            <a:xfrm>
              <a:off x="185760" y="1160640"/>
              <a:ext cx="9555120" cy="1081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5760" y="2241720"/>
              <a:ext cx="9555120" cy="15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5760" y="3832200"/>
              <a:ext cx="9555120" cy="1590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5760" y="5423040"/>
              <a:ext cx="955512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7360" y="1160640"/>
              <a:ext cx="0" cy="511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97680" y="741240"/>
              <a:ext cx="838440" cy="365400"/>
            </a:xfrm>
            <a:prstGeom prst="rightArrow">
              <a:avLst>
                <a:gd name="adj1" fmla="val 64583"/>
                <a:gd name="adj2" fmla="val 5736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160" y="7477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974088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8454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10220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287360" y="1033200"/>
              <a:ext cx="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8600" y="78588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4084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2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90160" y="7858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5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68560" y="78588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+ 10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02200" y="1157400"/>
              <a:ext cx="0" cy="511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45400" y="1157400"/>
              <a:ext cx="0" cy="511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6880" y="16621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880" y="27972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6880" y="33148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-32760" y="154692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508320" y="1190160"/>
              <a:ext cx="56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(Ex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444960" y="1726920"/>
              <a:ext cx="68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(In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-97560" y="28616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-245520" y="444276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-52560" y="5581800"/>
              <a:ext cx="9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sources / 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2480" y="43718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2480" y="4889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 rot="16200000">
            <a:off x="8827200" y="2875320"/>
            <a:ext cx="13287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uper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82160" y="2906640"/>
            <a:ext cx="9270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£500-1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50240" y="30448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2680" y="23432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640" y="288432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9960" y="33973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92120" y="2398680"/>
            <a:ext cx="128124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er lo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89280" y="2828880"/>
            <a:ext cx="10443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rgono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8640" y="3452760"/>
            <a:ext cx="220968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rect d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1160" y="2401920"/>
            <a:ext cx="144756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n-line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3440" y="1255680"/>
            <a:ext cx="33861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egislation: VAT off bikes; cycle path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4840" y="1703520"/>
            <a:ext cx="13287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03640" y="1741320"/>
            <a:ext cx="105876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w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97640" y="1704960"/>
            <a:ext cx="195120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nd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your own 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55680"/>
            <a:ext cx="331596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ends: leisure, health, disposable in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21200" y="1252440"/>
            <a:ext cx="116352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et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22400" y="1738440"/>
            <a:ext cx="1176480" cy="3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mon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63960" y="2828880"/>
            <a:ext cx="10443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ul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3320" y="2943360"/>
            <a:ext cx="189540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stomised 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8720" y="2398680"/>
            <a:ext cx="12096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pand 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1120" y="3459240"/>
            <a:ext cx="1317600" cy="26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toma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0080" y="3456000"/>
            <a:ext cx="12096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hip-on-bik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03640" y="359712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92640" y="2080800"/>
            <a:ext cx="0" cy="15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76600" y="252900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06880" y="3046320"/>
            <a:ext cx="18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0120" y="2540160"/>
            <a:ext cx="17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02600" y="2187720"/>
            <a:ext cx="341280" cy="1398600"/>
          </a:xfrm>
          <a:custGeom>
            <a:avLst/>
            <a:gdLst/>
            <a:ahLst/>
            <a:rect l="l" t="t" r="r" b="b"/>
            <a:pathLst>
              <a:path w="215" h="881">
                <a:moveTo>
                  <a:pt x="0" y="881"/>
                </a:moveTo>
                <a:lnTo>
                  <a:pt x="215" y="881"/>
                </a:lnTo>
                <a:lnTo>
                  <a:pt x="2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02600" y="2529000"/>
            <a:ext cx="33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02600" y="30574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421320" y="267336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35440" y="3057480"/>
            <a:ext cx="1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160" y="39290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1520" y="44434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7160" y="504180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38360" y="3871800"/>
            <a:ext cx="102384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61160" y="5087880"/>
            <a:ext cx="144756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8200" y="4435560"/>
            <a:ext cx="104796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rgono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7120" y="3978360"/>
            <a:ext cx="170640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ss custom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06880" y="5087880"/>
            <a:ext cx="118908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39920" y="4437000"/>
            <a:ext cx="965160" cy="5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terials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0480" y="4743360"/>
            <a:ext cx="119700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isu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79680" y="4695840"/>
            <a:ext cx="89064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D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16240" y="3863880"/>
            <a:ext cx="96516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75280" y="4092480"/>
            <a:ext cx="64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845320" y="320976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45320" y="2670120"/>
            <a:ext cx="258480" cy="728640"/>
          </a:xfrm>
          <a:custGeom>
            <a:avLst/>
            <a:gdLst/>
            <a:ahLst/>
            <a:rect l="l" t="t" r="r" b="b"/>
            <a:pathLst>
              <a:path w="163" h="459">
                <a:moveTo>
                  <a:pt x="0" y="459"/>
                </a:moveTo>
                <a:lnTo>
                  <a:pt x="163" y="459"/>
                </a:lnTo>
                <a:lnTo>
                  <a:pt x="16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73360" y="409248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292640" y="359892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0320" y="486900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845320" y="423828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5210280"/>
            <a:ext cx="56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27600" y="3594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16240" y="482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916360" y="37270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55960" y="409248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05840" y="3598920"/>
            <a:ext cx="338040" cy="1622520"/>
          </a:xfrm>
          <a:custGeom>
            <a:avLst/>
            <a:gdLst/>
            <a:ahLst/>
            <a:rect l="l" t="t" r="r" b="b"/>
            <a:pathLst>
              <a:path w="185" h="1022">
                <a:moveTo>
                  <a:pt x="0" y="1022"/>
                </a:moveTo>
                <a:lnTo>
                  <a:pt x="185" y="1022"/>
                </a:lnTo>
                <a:lnTo>
                  <a:pt x="18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57840" y="37270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1840" y="4092480"/>
            <a:ext cx="39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00680" y="4869000"/>
            <a:ext cx="1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96880" y="5483160"/>
            <a:ext cx="3281400" cy="3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liances: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ear / drive; styling;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35280" y="4951440"/>
            <a:ext cx="0" cy="52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2200" y="5905440"/>
            <a:ext cx="77652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1400" y="5892840"/>
            <a:ext cx="197496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randing &amp; 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95440" y="5902200"/>
            <a:ext cx="77616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960800" y="5351040"/>
            <a:ext cx="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75040" y="5351400"/>
            <a:ext cx="1798920" cy="317520"/>
          </a:xfrm>
          <a:custGeom>
            <a:avLst/>
            <a:gdLst/>
            <a:ahLst/>
            <a:rect l="l" t="t" r="r" b="b"/>
            <a:pathLst>
              <a:path w="1252" h="341">
                <a:moveTo>
                  <a:pt x="0" y="341"/>
                </a:moveTo>
                <a:lnTo>
                  <a:pt x="1252" y="341"/>
                </a:lnTo>
                <a:lnTo>
                  <a:pt x="12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25920" y="588492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 Narrow"/>
              </a:rPr>
              <a:t>Sport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6360" y="6056280"/>
            <a:ext cx="212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822840" y="469224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777840" y="809640"/>
            <a:ext cx="22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3200" y="2511360"/>
            <a:ext cx="9118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cribe the key features of the road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lessons have been learnt about roadmap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might roadmapping be applied in your comp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3T22:46:45Z</dcterms:created>
  <dc:creator>Rob Phaal</dc:creator>
  <dc:description/>
  <dc:language>en-US</dc:language>
  <cp:lastModifiedBy>rp108</cp:lastModifiedBy>
  <cp:lastPrinted>2000-07-11T11:29:20Z</cp:lastPrinted>
  <dcterms:modified xsi:type="dcterms:W3CDTF">2001-10-22T11:56:43Z</dcterms:modified>
  <cp:revision>187</cp:revision>
  <dc:subject/>
  <dc:title>No Slide Title</dc:title>
</cp:coreProperties>
</file>